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111111"/>
                </a:solidFill>
                <a:latin typeface="Times New Roman"/>
              </a:rPr>
              <a:t>Click to move the slide</a:t>
            </a:r>
            <a:endParaRPr b="0" lang="en-US" sz="61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0B00C-0C22-418F-93CC-A43064C0006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elc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28200" y="1828440"/>
            <a:ext cx="83631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8200" y="4097160"/>
            <a:ext cx="83631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200" y="182844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13640" y="182844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28200" y="409716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913640" y="409716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28200" y="1828440"/>
            <a:ext cx="2692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56000" y="1828440"/>
            <a:ext cx="2692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283800" y="1828440"/>
            <a:ext cx="2692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28200" y="4097160"/>
            <a:ext cx="2692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456000" y="4097160"/>
            <a:ext cx="2692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283800" y="4097160"/>
            <a:ext cx="2692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28200" y="1828440"/>
            <a:ext cx="83631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28200" y="1828440"/>
            <a:ext cx="83631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28200" y="1828440"/>
            <a:ext cx="40809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913640" y="1828440"/>
            <a:ext cx="40809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9000"/>
              </a:lnSpc>
              <a:spcBef>
                <a:spcPts val="1712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28200" y="182844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13640" y="1828440"/>
            <a:ext cx="40809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28200" y="409716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28200" y="1828440"/>
            <a:ext cx="83631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28200" y="1828440"/>
            <a:ext cx="40809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913640" y="182844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913640" y="409716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28200" y="182844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13640" y="182844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28200" y="4097160"/>
            <a:ext cx="83631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28200" y="1828440"/>
            <a:ext cx="83631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28200" y="4097160"/>
            <a:ext cx="83631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200" y="182844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13640" y="182844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28200" y="409716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913640" y="409716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28200" y="1828440"/>
            <a:ext cx="2692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456000" y="1828440"/>
            <a:ext cx="2692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283800" y="1828440"/>
            <a:ext cx="2692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28200" y="4097160"/>
            <a:ext cx="2692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456000" y="4097160"/>
            <a:ext cx="2692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283800" y="4097160"/>
            <a:ext cx="2692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28200" y="1828440"/>
            <a:ext cx="83631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28200" y="1828440"/>
            <a:ext cx="40809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913640" y="1828440"/>
            <a:ext cx="40809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9000"/>
              </a:lnSpc>
              <a:spcBef>
                <a:spcPts val="1712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28200" y="182844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13640" y="1828440"/>
            <a:ext cx="40809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28200" y="409716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28200" y="1828440"/>
            <a:ext cx="40809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13640" y="182844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913640" y="409716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28200" y="182844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13640" y="182844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8200" y="4097160"/>
            <a:ext cx="83631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111111"/>
                </a:solidFill>
                <a:latin typeface="Times New Roman"/>
              </a:rPr>
              <a:t>Click to edit the title text format</a:t>
            </a: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200" y="1828440"/>
            <a:ext cx="83631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111111"/>
                </a:solidFill>
                <a:latin typeface="Arial"/>
              </a:rPr>
              <a:t>Click to edit the outline text format</a:t>
            </a: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  <a:p>
            <a:pPr lvl="1" marL="228600" indent="-227160">
              <a:lnSpc>
                <a:spcPct val="109000"/>
              </a:lnSpc>
              <a:spcBef>
                <a:spcPts val="1712"/>
              </a:spcBef>
              <a:buClr>
                <a:srgbClr val="3399ff"/>
              </a:buClr>
              <a:buFont typeface="Arial"/>
              <a:buChar char="•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111111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  <a:p>
            <a:pPr lvl="2" marL="627120" indent="-284040">
              <a:lnSpc>
                <a:spcPct val="109000"/>
              </a:lnSpc>
              <a:spcBef>
                <a:spcPts val="1712"/>
              </a:spcBef>
              <a:buClr>
                <a:srgbClr val="3399ff"/>
              </a:buClr>
              <a:buFont typeface="Arial"/>
              <a:buChar char="–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111111"/>
                </a:solidFill>
                <a:latin typeface="Arial"/>
              </a:rPr>
              <a:t>Third Outline Level</a:t>
            </a: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  <a:p>
            <a:pPr lvl="3" marL="1712880" indent="-228600">
              <a:lnSpc>
                <a:spcPct val="109000"/>
              </a:lnSpc>
              <a:spcBef>
                <a:spcPts val="1712"/>
              </a:spcBef>
              <a:buClr>
                <a:srgbClr val="111111"/>
              </a:buClr>
              <a:buFont typeface="Times New Roman"/>
              <a:buChar char="–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111111"/>
                </a:solidFill>
                <a:latin typeface="Arial"/>
              </a:rPr>
              <a:t>Fourth Outline Level</a:t>
            </a: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  <a:p>
            <a:pPr lvl="4" marL="2052720" indent="-225360">
              <a:lnSpc>
                <a:spcPct val="109000"/>
              </a:lnSpc>
              <a:spcBef>
                <a:spcPts val="1712"/>
              </a:spcBef>
              <a:buClr>
                <a:srgbClr val="111111"/>
              </a:buClr>
              <a:buFont typeface="Times New Roman"/>
              <a:buChar char="»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111111"/>
                </a:solidFill>
                <a:latin typeface="Arial"/>
              </a:rPr>
              <a:t>Fifth Outline Level</a:t>
            </a: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  <a:p>
            <a:pPr lvl="5" marL="2052720" indent="-225360">
              <a:lnSpc>
                <a:spcPct val="109000"/>
              </a:lnSpc>
              <a:spcBef>
                <a:spcPts val="1712"/>
              </a:spcBef>
              <a:buClr>
                <a:srgbClr val="111111"/>
              </a:buClr>
              <a:buFont typeface="Times New Roman"/>
              <a:buChar char="»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111111"/>
                </a:solidFill>
                <a:latin typeface="Arial"/>
              </a:rPr>
              <a:t>Sixth Outline Level</a:t>
            </a: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  <a:p>
            <a:pPr lvl="6" marL="2052720" indent="-225360">
              <a:lnSpc>
                <a:spcPct val="109000"/>
              </a:lnSpc>
              <a:spcBef>
                <a:spcPts val="1712"/>
              </a:spcBef>
              <a:buClr>
                <a:srgbClr val="111111"/>
              </a:buClr>
              <a:buFont typeface="Times New Roman"/>
              <a:buChar char="»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111111"/>
                </a:solidFill>
                <a:latin typeface="Arial"/>
              </a:rPr>
              <a:t>Seventh Outline Level</a:t>
            </a: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1599840"/>
            <a:ext cx="731520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 anchorCtr="1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111111"/>
                </a:solidFill>
                <a:latin typeface="Times New Roman"/>
              </a:rPr>
              <a:t>Click to edit the title text format</a:t>
            </a:r>
            <a:endParaRPr b="0" lang="en-US" sz="61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09000"/>
              </a:lnSpc>
              <a:spcBef>
                <a:spcPts val="1712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111111"/>
                </a:solidFill>
                <a:latin typeface="Arial"/>
              </a:rPr>
              <a:t>Click to edit the outline text format</a:t>
            </a: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  <a:p>
            <a:pPr lvl="1" marL="1440" indent="0" algn="ctr">
              <a:lnSpc>
                <a:spcPct val="109000"/>
              </a:lnSpc>
              <a:spcBef>
                <a:spcPts val="16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111111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  <a:p>
            <a:pPr lvl="2" marL="343080" algn="ctr">
              <a:lnSpc>
                <a:spcPct val="109000"/>
              </a:lnSpc>
              <a:buClr>
                <a:srgbClr val="3399ff"/>
              </a:buClr>
              <a:buFont typeface="Arial"/>
              <a:buChar char="–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111111"/>
                </a:solidFill>
                <a:latin typeface="Arial"/>
              </a:rPr>
              <a:t>Third Outline Level</a:t>
            </a: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  <a:p>
            <a:pPr lvl="3" marL="857160" indent="627120" algn="ctr">
              <a:spcBef>
                <a:spcPts val="499"/>
              </a:spcBef>
              <a:buClr>
                <a:srgbClr val="111111"/>
              </a:buClr>
              <a:buFont typeface="Times New Roman"/>
              <a:buChar char="–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111111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  <a:p>
            <a:pPr lvl="4" marL="1200240" indent="627120" algn="ctr">
              <a:spcBef>
                <a:spcPts val="499"/>
              </a:spcBef>
              <a:buClr>
                <a:srgbClr val="111111"/>
              </a:buClr>
              <a:buFont typeface="Times New Roman"/>
              <a:buChar char="»"/>
              <a:tabLst>
                <a:tab algn="l" pos="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111111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  <a:p>
            <a:pPr lvl="5" marL="1200240" indent="627120">
              <a:spcBef>
                <a:spcPts val="499"/>
              </a:spcBef>
              <a:buClr>
                <a:srgbClr val="111111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11111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  <a:p>
            <a:pPr lvl="6" marL="1200240" indent="627120">
              <a:spcBef>
                <a:spcPts val="499"/>
              </a:spcBef>
              <a:buClr>
                <a:srgbClr val="111111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11111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206360" y="4335480"/>
            <a:ext cx="7315200" cy="14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algn="ctr">
              <a:lnSpc>
                <a:spcPct val="109000"/>
              </a:lnSpc>
              <a:spcBef>
                <a:spcPts val="13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ar-SA" sz="1900" spc="-1" strike="noStrike">
                <a:solidFill>
                  <a:srgbClr val="ffffff"/>
                </a:solidFill>
                <a:latin typeface="Arial"/>
                <a:ea typeface="Times New Roman (Arabic)"/>
              </a:rPr>
              <a:t>29 </a:t>
            </a:r>
            <a:r>
              <a:rPr b="0" lang="ar-SA" sz="1900" spc="-1" strike="noStrike">
                <a:solidFill>
                  <a:srgbClr val="ffffff"/>
                </a:solidFill>
                <a:latin typeface="Arial"/>
                <a:cs typeface="Times New Roman (Arabic)"/>
              </a:rPr>
              <a:t>أبريل </a:t>
            </a:r>
            <a:r>
              <a:rPr b="0" lang="ar-SA" sz="1900" spc="-1" strike="noStrike">
                <a:solidFill>
                  <a:srgbClr val="ffffff"/>
                </a:solidFill>
                <a:latin typeface="Arial"/>
                <a:ea typeface="Times New Roman (Arabic)"/>
              </a:rPr>
              <a:t>2003</a:t>
            </a:r>
            <a:endParaRPr b="0" lang="en-US" sz="19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070720" y="2741760"/>
            <a:ext cx="5423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Times New Roman"/>
                <a:cs typeface="Times New Roman"/>
              </a:rPr>
              <a:t>ب</a:t>
            </a:r>
            <a:r>
              <a:rPr b="0" lang="ar-SA" sz="3200" spc="-1" strike="noStrike">
                <a:solidFill>
                  <a:srgbClr val="ff9900"/>
                </a:solidFill>
                <a:latin typeface="Times New Roman"/>
                <a:cs typeface="Times New Roman"/>
              </a:rPr>
              <a:t>رنامج الأعداد لأمتحان المتوسط</a:t>
            </a:r>
            <a:endParaRPr b="0" lang="en-US" sz="32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9900"/>
                </a:solidFill>
                <a:latin typeface="Times New Roman"/>
                <a:cs typeface="Times New Roman"/>
              </a:rPr>
              <a:t>مادة المراجعة</a:t>
            </a:r>
            <a:endParaRPr b="0" lang="en-US" sz="3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title"/>
          </p:nvPr>
        </p:nvSpPr>
        <p:spPr>
          <a:xfrm>
            <a:off x="1038240" y="407880"/>
            <a:ext cx="7315200" cy="19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9900"/>
                </a:solidFill>
                <a:latin typeface="Times New Roman"/>
                <a:cs typeface="Times New Roman"/>
              </a:rPr>
              <a:t>ج</a:t>
            </a:r>
            <a:r>
              <a:rPr b="0" lang="ar-SA" sz="3600" spc="-1" strike="noStrike">
                <a:solidFill>
                  <a:srgbClr val="ff9900"/>
                </a:solidFill>
                <a:latin typeface="Times New Roman"/>
                <a:cs typeface="Times New Roman"/>
              </a:rPr>
              <a:t>معية المحاسبيين والمراجعيين المصرية</a:t>
            </a:r>
            <a:endParaRPr b="0" lang="en-US" sz="36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2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0" y="0"/>
            <a:ext cx="9144000" cy="1273320"/>
          </a:xfrm>
          <a:prstGeom prst="rect">
            <a:avLst/>
          </a:prstGeom>
          <a:solidFill>
            <a:srgbClr val="263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pic>
        <p:nvPicPr>
          <p:cNvPr id="220" name="Boatblueoverlay" descr=""/>
          <p:cNvPicPr/>
          <p:nvPr/>
        </p:nvPicPr>
        <p:blipFill>
          <a:blip r:embed="rId1"/>
          <a:stretch/>
        </p:blipFill>
        <p:spPr>
          <a:xfrm>
            <a:off x="7848720" y="235080"/>
            <a:ext cx="1143000" cy="86832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7061040" y="658332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848720" y="233280"/>
            <a:ext cx="1143000" cy="868320"/>
          </a:xfrm>
          <a:prstGeom prst="rect">
            <a:avLst/>
          </a:prstGeom>
          <a:noFill/>
          <a:ln w="9360">
            <a:solidFill>
              <a:srgbClr val="ffe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0" y="984240"/>
            <a:ext cx="8629560" cy="5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109000"/>
              </a:lnSpc>
              <a:spcBef>
                <a:spcPts val="15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620640" y="1700280"/>
          <a:ext cx="8218440" cy="5087880"/>
        </p:xfrm>
        <a:graphic>
          <a:graphicData uri="http://schemas.openxmlformats.org/drawingml/2006/table">
            <a:tbl>
              <a:tblPr/>
              <a:tblGrid>
                <a:gridCol w="5218200"/>
                <a:gridCol w="3000240"/>
              </a:tblGrid>
              <a:tr h="911160">
                <a:tc>
                  <a:txBody>
                    <a:bodyPr lIns="0" rIns="274320" tIns="0" bIns="46800" anchor="t">
                      <a:noAutofit/>
                    </a:bodyPr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13680">
                      <a:solidFill>
                        <a:srgbClr val="111111"/>
                      </a:solidFill>
                    </a:lnL>
                    <a:lnR w="5760">
                      <a:solidFill>
                        <a:srgbClr val="111111"/>
                      </a:solidFill>
                    </a:lnR>
                    <a:lnT w="1368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noFill/>
                  </a:tcPr>
                </a:tc>
                <a:tc>
                  <a:txBody>
                    <a:bodyPr lIns="0" rIns="274320" tIns="0" bIns="46800" anchor="t">
                      <a:noAutofit/>
                    </a:bodyPr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5</a:t>
                      </a: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- تقارير المخاطر</a:t>
                      </a: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5760">
                      <a:solidFill>
                        <a:srgbClr val="111111"/>
                      </a:solidFill>
                    </a:lnL>
                    <a:lnR w="13680">
                      <a:solidFill>
                        <a:srgbClr val="111111"/>
                      </a:solidFill>
                    </a:lnR>
                    <a:lnT w="1368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noFill/>
                  </a:tcPr>
                </a:tc>
              </a:tr>
              <a:tr h="1678680">
                <a:tc>
                  <a:txBody>
                    <a:bodyPr lIns="0" rIns="274320" tIns="0" bIns="46800" anchor="t">
                      <a:noAutofit/>
                    </a:bodyPr>
                    <a:p>
                      <a:pPr marL="380880" indent="-380880" algn="r" rtl="1">
                        <a:lnSpc>
                          <a:spcPct val="109000"/>
                        </a:lnSpc>
                        <a:spcBef>
                          <a:spcPts val="964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4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marL="380880" indent="-380880" algn="r" rtl="1">
                        <a:lnSpc>
                          <a:spcPct val="109000"/>
                        </a:lnSpc>
                        <a:spcBef>
                          <a:spcPts val="964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4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marL="380880" indent="-380880" algn="r" rtl="1">
                        <a:lnSpc>
                          <a:spcPct val="109000"/>
                        </a:lnSpc>
                        <a:spcBef>
                          <a:spcPts val="964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4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marL="380880" indent="-380880" algn="r" rtl="1">
                        <a:lnSpc>
                          <a:spcPct val="109000"/>
                        </a:lnSpc>
                        <a:spcBef>
                          <a:spcPts val="964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4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marL="380880" indent="-380880" algn="r" rtl="1">
                        <a:lnSpc>
                          <a:spcPct val="109000"/>
                        </a:lnSpc>
                        <a:spcBef>
                          <a:spcPts val="964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4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13680">
                      <a:solidFill>
                        <a:srgbClr val="111111"/>
                      </a:solidFill>
                    </a:lnL>
                    <a:lnR w="576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noFill/>
                  </a:tcPr>
                </a:tc>
                <a:tc>
                  <a:txBody>
                    <a:bodyPr lIns="0" rIns="274320" tIns="0" bIns="46800" anchor="t">
                      <a:noAutofit/>
                    </a:bodyPr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6</a:t>
                      </a: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- - تقارير ورش العمل عن مشاكل المخاطر والرقابة</a:t>
                      </a: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5760">
                      <a:solidFill>
                        <a:srgbClr val="111111"/>
                      </a:solidFill>
                    </a:lnL>
                    <a:lnR w="1368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noFill/>
                  </a:tcPr>
                </a:tc>
              </a:tr>
              <a:tr h="2492640">
                <a:tc>
                  <a:txBody>
                    <a:bodyPr lIns="0" rIns="274320" tIns="0" bIns="46800" anchor="t">
                      <a:noAutofit/>
                    </a:bodyPr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13680">
                      <a:solidFill>
                        <a:srgbClr val="111111"/>
                      </a:solidFill>
                    </a:lnL>
                    <a:lnR w="576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13680">
                      <a:solidFill>
                        <a:srgbClr val="111111"/>
                      </a:solidFill>
                    </a:lnB>
                    <a:noFill/>
                  </a:tcPr>
                </a:tc>
                <a:tc>
                  <a:txBody>
                    <a:bodyPr lIns="0" rIns="274320" tIns="0" bIns="46800" anchor="t">
                      <a:noAutofit/>
                    </a:bodyPr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7</a:t>
                      </a: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- التقارير الشهرية والسنوية</a:t>
                      </a: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5760">
                      <a:solidFill>
                        <a:srgbClr val="111111"/>
                      </a:solidFill>
                    </a:lnL>
                    <a:lnR w="1368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13680">
                      <a:solidFill>
                        <a:srgbClr val="111111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5" name=""/>
          <p:cNvSpPr/>
          <p:nvPr/>
        </p:nvSpPr>
        <p:spPr>
          <a:xfrm>
            <a:off x="620640" y="1700280"/>
            <a:ext cx="5359320" cy="89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marL="291960" indent="-29196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قارير تتضمن تحليلا لجوانب المخاطر التى تتعرض لها المنشأة من حيث احتمالتها وتاثيرتها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291960" indent="-29196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تضمن المخاطر واساليب الرقابة المستخدمة  لتحقيق متطلبات حوكمة الشركات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20640" y="2847960"/>
            <a:ext cx="5405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marL="380880" indent="-27936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  <a:tab algn="l" pos="80010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رش عمل  مع الأدارات المختصة لمناقشة الأراء المختلفة والأساليب البديلة لتحقيق الأهداف وتتضمن عادة 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380880" indent="-279360" algn="r" rtl="1">
              <a:lnSpc>
                <a:spcPct val="99000"/>
              </a:lnSpc>
              <a:buClr>
                <a:srgbClr val="3399ff"/>
              </a:buClr>
              <a:buFont typeface="Wingdings" charset="2"/>
              <a:buChar char=""/>
              <a:tabLst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  <a:tab algn="l" pos="80010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جالات الخطر الرئيسية التى تم تحديدها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380880" indent="-279360" algn="r" rtl="1">
              <a:lnSpc>
                <a:spcPct val="99000"/>
              </a:lnSpc>
              <a:buClr>
                <a:srgbClr val="3399ff"/>
              </a:buClr>
              <a:buFont typeface="Wingdings" charset="2"/>
              <a:buChar char=""/>
              <a:tabLst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  <a:tab algn="l" pos="80010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يان احتمالات حدوثها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380880" indent="-279360" algn="r" rtl="1">
              <a:lnSpc>
                <a:spcPct val="99000"/>
              </a:lnSpc>
              <a:buClr>
                <a:srgbClr val="3399ff"/>
              </a:buClr>
              <a:buFont typeface="Wingdings" charset="2"/>
              <a:buChar char=""/>
              <a:tabLst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  <a:tab algn="l" pos="80010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أجراءات التى تم الأتفاق على اتخاذها بهذا الشأن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990720" y="4335480"/>
            <a:ext cx="4952880" cy="262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marL="291960" indent="-291960" algn="r" rtl="1">
              <a:lnSpc>
                <a:spcPct val="109000"/>
              </a:lnSpc>
              <a:spcBef>
                <a:spcPts val="964"/>
              </a:spcBef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111111"/>
                </a:solidFill>
                <a:latin typeface="Times New Roman"/>
                <a:cs typeface="Times New Roman"/>
              </a:rPr>
              <a:t>يجب اعداد تقارير شهرية وسنوية للأدارة لتوفر لها التأكيد المناسب عن مستوى المخاطر والرقابة ومدى الألتزام بمتطلبات الحوكمة  وتوضح صورة شاملة لهذه الأوضاع وتشتمل عادة على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291960" indent="-291960" algn="r" rtl="1">
              <a:lnSpc>
                <a:spcPct val="109000"/>
              </a:lnSpc>
              <a:spcBef>
                <a:spcPts val="964"/>
              </a:spcBef>
              <a:buClr>
                <a:srgbClr val="3399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111111"/>
                </a:solidFill>
                <a:latin typeface="Times New Roman"/>
                <a:cs typeface="Times New Roman"/>
              </a:rPr>
              <a:t>إحصائيات الأداء لأدارة المراجعة الداخلية  بما فيها ما تم انجازه طبقا للمعايير المتفق عليها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291960" indent="-291960" algn="r" rtl="1">
              <a:lnSpc>
                <a:spcPct val="109000"/>
              </a:lnSpc>
              <a:spcBef>
                <a:spcPts val="964"/>
              </a:spcBef>
              <a:buClr>
                <a:srgbClr val="3399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111111"/>
                </a:solidFill>
                <a:latin typeface="Times New Roman"/>
                <a:cs typeface="Times New Roman"/>
              </a:rPr>
              <a:t>ملخص التوصيات القائمة 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291960" indent="-291960" algn="r" rtl="1">
              <a:lnSpc>
                <a:spcPct val="109000"/>
              </a:lnSpc>
              <a:spcBef>
                <a:spcPts val="964"/>
              </a:spcBef>
              <a:buClr>
                <a:srgbClr val="3399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111111"/>
                </a:solidFill>
                <a:latin typeface="Times New Roman"/>
                <a:cs typeface="Times New Roman"/>
              </a:rPr>
              <a:t>المخاطر الحددة والتى لم يتم اعداد تقارير عنها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291960" indent="-291960" algn="r" rtl="1">
              <a:lnSpc>
                <a:spcPct val="109000"/>
              </a:lnSpc>
              <a:spcBef>
                <a:spcPts val="964"/>
              </a:spcBef>
              <a:buClr>
                <a:srgbClr val="3399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111111"/>
                </a:solidFill>
                <a:latin typeface="Times New Roman"/>
                <a:cs typeface="Times New Roman"/>
              </a:rPr>
              <a:t>خطط المراجعة الداخلية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20640" y="165240"/>
            <a:ext cx="6888240" cy="9777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01520" algn="r" rtl="1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تق</a:t>
            </a:r>
            <a:r>
              <a:rPr b="0" lang="en-GB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رير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مراجع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داخلي</a:t>
            </a:r>
            <a:r>
              <a:rPr b="0" lang="en-GB" sz="3200" spc="-1" strike="noStrike">
                <a:solidFill>
                  <a:srgbClr val="ffffff"/>
                </a:solidFill>
                <a:latin typeface="PwC_Logo"/>
                <a:cs typeface="PwC_Logo"/>
              </a:rPr>
              <a:t>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en-GB" sz="2000" spc="-1" strike="noStrike">
                <a:solidFill>
                  <a:srgbClr val="ffffff"/>
                </a:solidFill>
                <a:latin typeface="PwC_Logo"/>
                <a:cs typeface="PwC_Logo"/>
              </a:rPr>
              <a:t>ا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cs typeface="PwC_Logo"/>
              </a:rPr>
              <a:t>نواع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en-GB" sz="2000" spc="-1" strike="noStrike">
                <a:solidFill>
                  <a:srgbClr val="ffffff"/>
                </a:solidFill>
                <a:latin typeface="PwC_Logo"/>
                <a:cs typeface="PwC_Logo"/>
              </a:rPr>
              <a:t>ا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cs typeface="PwC_Logo"/>
              </a:rPr>
              <a:t>لتقارير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cs typeface="PwC_Logo"/>
              </a:rPr>
              <a:t>من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cs typeface="PwC_Logo"/>
              </a:rPr>
              <a:t>حيث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cs typeface="PwC_Logo"/>
              </a:rPr>
              <a:t>المضمون</a:t>
            </a:r>
            <a:r>
              <a:rPr b="0" lang="en-GB" sz="20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ea typeface="PwC_Logo"/>
              </a:rPr>
              <a:t></a:t>
            </a:r>
            <a:r>
              <a:rPr b="0" lang="ar-SA" sz="1600" spc="-1" strike="noStrike">
                <a:solidFill>
                  <a:srgbClr val="ffffff"/>
                </a:solidFill>
                <a:latin typeface="PwC_Logo"/>
                <a:ea typeface="PwC_Logo"/>
              </a:rPr>
              <a:t>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2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0" y="0"/>
            <a:ext cx="9144000" cy="1273320"/>
          </a:xfrm>
          <a:prstGeom prst="rect">
            <a:avLst/>
          </a:prstGeom>
          <a:solidFill>
            <a:srgbClr val="263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pic>
        <p:nvPicPr>
          <p:cNvPr id="230" name="Boatblueoverlay" descr=""/>
          <p:cNvPicPr/>
          <p:nvPr/>
        </p:nvPicPr>
        <p:blipFill>
          <a:blip r:embed="rId1"/>
          <a:stretch/>
        </p:blipFill>
        <p:spPr>
          <a:xfrm>
            <a:off x="7848720" y="101520"/>
            <a:ext cx="1143000" cy="86832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7061040" y="645012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848720" y="100080"/>
            <a:ext cx="1143000" cy="868320"/>
          </a:xfrm>
          <a:prstGeom prst="rect">
            <a:avLst/>
          </a:prstGeom>
          <a:noFill/>
          <a:ln w="9360">
            <a:solidFill>
              <a:srgbClr val="ffe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0" y="851040"/>
            <a:ext cx="862956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109000"/>
              </a:lnSpc>
              <a:spcBef>
                <a:spcPts val="15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20640" y="2131920"/>
          <a:ext cx="8218440" cy="4334040"/>
        </p:xfrm>
        <a:graphic>
          <a:graphicData uri="http://schemas.openxmlformats.org/drawingml/2006/table">
            <a:tbl>
              <a:tblPr/>
              <a:tblGrid>
                <a:gridCol w="5217840"/>
                <a:gridCol w="3000600"/>
              </a:tblGrid>
              <a:tr h="1965600">
                <a:tc>
                  <a:txBody>
                    <a:bodyPr lIns="0" rIns="274320" tIns="0" bIns="46800" anchor="t">
                      <a:noAutofit/>
                    </a:bodyPr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13680">
                      <a:solidFill>
                        <a:srgbClr val="111111"/>
                      </a:solidFill>
                    </a:lnL>
                    <a:lnR w="5760">
                      <a:solidFill>
                        <a:srgbClr val="111111"/>
                      </a:solidFill>
                    </a:lnR>
                    <a:lnT w="1368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noFill/>
                  </a:tcPr>
                </a:tc>
                <a:tc>
                  <a:txBody>
                    <a:bodyPr lIns="0" rIns="274320" tIns="0" bIns="46800" anchor="t">
                      <a:noAutofit/>
                    </a:bodyPr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9</a:t>
                      </a: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- التقارير الرسمية </a:t>
                      </a: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5760">
                      <a:solidFill>
                        <a:srgbClr val="111111"/>
                      </a:solidFill>
                    </a:lnL>
                    <a:lnR w="13680">
                      <a:solidFill>
                        <a:srgbClr val="111111"/>
                      </a:solidFill>
                    </a:lnR>
                    <a:lnT w="1368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noFill/>
                  </a:tcPr>
                </a:tc>
              </a:tr>
              <a:tr h="927360">
                <a:tc>
                  <a:txBody>
                    <a:bodyPr lIns="0" rIns="274320" tIns="0" bIns="46800" anchor="t">
                      <a:noAutofit/>
                    </a:bodyPr>
                    <a:p>
                      <a:pPr marL="380880" indent="-380880" algn="r" rtl="1">
                        <a:lnSpc>
                          <a:spcPct val="109000"/>
                        </a:lnSpc>
                        <a:spcBef>
                          <a:spcPts val="964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4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13680">
                      <a:solidFill>
                        <a:srgbClr val="111111"/>
                      </a:solidFill>
                    </a:lnL>
                    <a:lnR w="576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noFill/>
                  </a:tcPr>
                </a:tc>
                <a:tc>
                  <a:txBody>
                    <a:bodyPr lIns="0" rIns="274320" tIns="0" bIns="46800" anchor="t">
                      <a:noAutofit/>
                    </a:bodyPr>
                    <a:p>
                      <a:pPr lvl="1" marL="401760" indent="-400320" algn="r" rtl="1">
                        <a:lnSpc>
                          <a:spcPct val="109000"/>
                        </a:lnSpc>
                        <a:spcBef>
                          <a:spcPts val="1363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10</a:t>
                      </a: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- المذكرات</a:t>
                      </a: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marL="399960" indent="-399960"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buClr>
                          <a:srgbClr val="3399ff"/>
                        </a:buClr>
                        <a:buFont typeface="Times New Roman"/>
                        <a:buChar char="-"/>
                        <a:tabLst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5760">
                      <a:solidFill>
                        <a:srgbClr val="111111"/>
                      </a:solidFill>
                    </a:lnL>
                    <a:lnR w="1368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noFill/>
                  </a:tcPr>
                </a:tc>
              </a:tr>
              <a:tr h="1441080">
                <a:tc>
                  <a:txBody>
                    <a:bodyPr lIns="0" rIns="274320" tIns="0" bIns="46800" anchor="t">
                      <a:noAutofit/>
                    </a:bodyPr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13680">
                      <a:solidFill>
                        <a:srgbClr val="111111"/>
                      </a:solidFill>
                    </a:lnL>
                    <a:lnR w="576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13680">
                      <a:solidFill>
                        <a:srgbClr val="111111"/>
                      </a:solidFill>
                    </a:lnB>
                    <a:noFill/>
                  </a:tcPr>
                </a:tc>
                <a:tc>
                  <a:txBody>
                    <a:bodyPr lIns="0" rIns="274320" tIns="0" bIns="46800" anchor="t">
                      <a:noAutofit/>
                    </a:bodyPr>
                    <a:p>
                      <a:pPr marL="399960" indent="-399960"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11</a:t>
                      </a: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- تقارير بأسلوب التصنيف</a:t>
                      </a: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5760">
                      <a:solidFill>
                        <a:srgbClr val="111111"/>
                      </a:solidFill>
                    </a:lnL>
                    <a:lnR w="1368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13680">
                      <a:solidFill>
                        <a:srgbClr val="111111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5" name=""/>
          <p:cNvSpPr/>
          <p:nvPr/>
        </p:nvSpPr>
        <p:spPr>
          <a:xfrm>
            <a:off x="812880" y="5067360"/>
            <a:ext cx="4952880" cy="157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marL="291960" indent="-291960" algn="r" rtl="1">
              <a:lnSpc>
                <a:spcPct val="109000"/>
              </a:lnSpc>
              <a:spcBef>
                <a:spcPts val="964"/>
              </a:spcBef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111111"/>
                </a:solidFill>
                <a:latin typeface="Times New Roman"/>
                <a:cs typeface="Times New Roman"/>
              </a:rPr>
              <a:t>تصنيف أو ترميز التقارير طبقا لأهميتها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291960" indent="-291960" algn="r" rtl="1">
              <a:lnSpc>
                <a:spcPct val="109000"/>
              </a:lnSpc>
              <a:spcBef>
                <a:spcPts val="964"/>
              </a:spcBef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111111"/>
                </a:solidFill>
                <a:latin typeface="Times New Roman"/>
                <a:cs typeface="Times New Roman"/>
              </a:rPr>
              <a:t>بأستخدام الألوان( احمر أصفر اخضر)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291960" indent="-291960" algn="r" rtl="1">
              <a:lnSpc>
                <a:spcPct val="109000"/>
              </a:lnSpc>
              <a:spcBef>
                <a:spcPts val="964"/>
              </a:spcBef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111111"/>
                </a:solidFill>
                <a:latin typeface="Times New Roman"/>
                <a:cs typeface="Times New Roman"/>
              </a:rPr>
              <a:t>بأستخدام الأرقام/ الحروف ( </a:t>
            </a:r>
            <a:r>
              <a:rPr b="1" lang="ar-SA" sz="1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1,2,3</a:t>
            </a:r>
            <a:r>
              <a:rPr b="1" lang="ar-SA" sz="1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)  (أ, ب,ج )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291960" indent="-291960" algn="r" rtl="1">
              <a:lnSpc>
                <a:spcPct val="109000"/>
              </a:lnSpc>
              <a:spcBef>
                <a:spcPts val="964"/>
              </a:spcBef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111111"/>
                </a:solidFill>
                <a:latin typeface="Times New Roman"/>
                <a:cs typeface="Times New Roman"/>
              </a:rPr>
              <a:t>بأستخدام عبارات (مقبول, مرضى, غير مقبول, غير مرضى)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20640" y="1512720"/>
            <a:ext cx="5386320" cy="2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marL="482760"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03120" y="2144880"/>
            <a:ext cx="557532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marL="380880" indent="-380880"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111111"/>
                </a:solidFill>
                <a:uFillTx/>
                <a:latin typeface="Times New Roman"/>
                <a:cs typeface="Times New Roman"/>
              </a:rPr>
              <a:t>ويشتمل عادة على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  <a:p>
            <a:pPr marL="380880" indent="-38088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لخص تنفيذى يتضمن نطاق العمل واسلوبه واهدافه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380880" indent="-380880"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- الأستنتاج الذى تم التوصل اليه والرأى                                                                                        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380880" indent="-380880"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- يجب ان يكون واضحا وكافيا لإحاطة القارئ بالنقاط الرئيسية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380880" indent="-380880"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- يعطى الأنطباع المطلوب دون الرجوع الى تفاصيل  كثيرة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380880" indent="-38088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لخص النتائج والتوصيات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380880" indent="-38088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نتائج التفصيلية والخطوات المتفق عليها للأصلاح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380880" indent="-38088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لاحق التقرير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380880" indent="-380880" algn="r" rtl="1">
              <a:lnSpc>
                <a:spcPct val="99000"/>
              </a:lnSpc>
              <a:buClr>
                <a:srgbClr val="33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-66960" y="4175280"/>
            <a:ext cx="680184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marL="291960" indent="-29196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ذكرات مختصرة مناسبة للمراجعات الصغيرة لاتحتاج لتقرير كامل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marL="291960" indent="-29196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تضمن نتائج المراجع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20640" y="165240"/>
            <a:ext cx="6888240" cy="9777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01520" algn="r" rtl="1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تق</a:t>
            </a:r>
            <a:r>
              <a:rPr b="0" lang="en-GB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رير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مراجع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داخلي</a:t>
            </a:r>
            <a:r>
              <a:rPr b="0" lang="en-GB" sz="3200" spc="-1" strike="noStrike">
                <a:solidFill>
                  <a:srgbClr val="ffffff"/>
                </a:solidFill>
                <a:latin typeface="PwC_Logo"/>
                <a:cs typeface="PwC_Logo"/>
              </a:rPr>
              <a:t>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en-GB" sz="2000" spc="-1" strike="noStrike">
                <a:solidFill>
                  <a:srgbClr val="ffffff"/>
                </a:solidFill>
                <a:latin typeface="PwC_Logo"/>
                <a:cs typeface="PwC_Logo"/>
              </a:rPr>
              <a:t>ا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cs typeface="PwC_Logo"/>
              </a:rPr>
              <a:t>نواع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en-GB" sz="2000" spc="-1" strike="noStrike">
                <a:solidFill>
                  <a:srgbClr val="ffffff"/>
                </a:solidFill>
                <a:latin typeface="PwC_Logo"/>
                <a:cs typeface="PwC_Logo"/>
              </a:rPr>
              <a:t>ا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cs typeface="PwC_Logo"/>
              </a:rPr>
              <a:t>لتقارير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cs typeface="PwC_Logo"/>
              </a:rPr>
              <a:t>من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cs typeface="PwC_Logo"/>
              </a:rPr>
              <a:t>حيث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cs typeface="PwC_Logo"/>
              </a:rPr>
              <a:t>الشكل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20640" y="1446120"/>
            <a:ext cx="7888320" cy="5079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922320" y="1555920"/>
            <a:ext cx="745164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algn="ct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عرض السليم للتقرير يساعد على توصيل النتائج للمستويات الأدارية المختلفة بصورة واضحة تزيد من فعاليته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Boatblueoverlay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3432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676440" y="2135160"/>
            <a:ext cx="7788240" cy="27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rmAutofit/>
          </a:bodyPr>
          <a:p>
            <a:pPr algn="ctr">
              <a:lnSpc>
                <a:spcPct val="109000"/>
              </a:lnSpc>
              <a:spcBef>
                <a:spcPts val="275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ar-SA" sz="4000" spc="-1" strike="noStrike">
                <a:solidFill>
                  <a:srgbClr val="ffe28f"/>
                </a:solidFill>
                <a:latin typeface="Times New Roman"/>
                <a:cs typeface="Bold Italic Art"/>
              </a:rPr>
              <a:t>استراحة</a:t>
            </a:r>
            <a:endParaRPr b="0" lang="en-US" sz="40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109000"/>
              </a:lnSpc>
              <a:spcBef>
                <a:spcPts val="165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ar-SA" sz="2400" spc="-1" strike="noStrike">
                <a:solidFill>
                  <a:srgbClr val="ffe28f"/>
                </a:solidFill>
                <a:latin typeface="Times New Roman"/>
                <a:ea typeface="Times New Roman"/>
              </a:rPr>
              <a:t>5 </a:t>
            </a:r>
            <a:r>
              <a:rPr b="0" lang="ar-SA" sz="2400" spc="-1" strike="noStrike">
                <a:solidFill>
                  <a:srgbClr val="ffe28f"/>
                </a:solidFill>
                <a:latin typeface="Times New Roman"/>
                <a:cs typeface="Times New Roman"/>
              </a:rPr>
              <a:t>دقائق</a:t>
            </a: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109000"/>
              </a:lnSpc>
              <a:spcBef>
                <a:spcPts val="1987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9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109000"/>
              </a:lnSpc>
              <a:spcBef>
                <a:spcPts val="1987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9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11120" y="1063800"/>
            <a:ext cx="7916760" cy="8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2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0" y="0"/>
            <a:ext cx="9144000" cy="1273320"/>
          </a:xfrm>
          <a:prstGeom prst="rect">
            <a:avLst/>
          </a:prstGeom>
          <a:solidFill>
            <a:srgbClr val="263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pic>
        <p:nvPicPr>
          <p:cNvPr id="246" name="Boatblueoverlay" descr=""/>
          <p:cNvPicPr/>
          <p:nvPr/>
        </p:nvPicPr>
        <p:blipFill>
          <a:blip r:embed="rId1"/>
          <a:stretch/>
        </p:blipFill>
        <p:spPr>
          <a:xfrm>
            <a:off x="7848720" y="101520"/>
            <a:ext cx="1143000" cy="86832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061040" y="645012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848720" y="100080"/>
            <a:ext cx="1143000" cy="868320"/>
          </a:xfrm>
          <a:prstGeom prst="rect">
            <a:avLst/>
          </a:prstGeom>
          <a:noFill/>
          <a:ln w="9360">
            <a:solidFill>
              <a:srgbClr val="ffe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20640" y="228600"/>
            <a:ext cx="7218360" cy="7113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PwC_Logo"/>
                <a:cs typeface="PwC_Logo"/>
              </a:rPr>
              <a:t>فحص</a:t>
            </a:r>
            <a:r>
              <a:rPr b="0" lang="ar-SA" sz="28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2800" spc="-1" strike="noStrike">
                <a:solidFill>
                  <a:srgbClr val="ffffff"/>
                </a:solidFill>
                <a:latin typeface="PwC_Logo"/>
                <a:cs typeface="PwC_Logo"/>
              </a:rPr>
              <a:t>وتقييم</a:t>
            </a:r>
            <a:r>
              <a:rPr b="0" lang="ar-SA" sz="28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2800" spc="-1" strike="noStrike">
                <a:solidFill>
                  <a:srgbClr val="ffffff"/>
                </a:solidFill>
                <a:latin typeface="PwC_Logo"/>
                <a:cs typeface="PwC_Logo"/>
              </a:rPr>
              <a:t>المراجع</a:t>
            </a:r>
            <a:r>
              <a:rPr b="0" lang="ar-SA" sz="28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2800" spc="-1" strike="noStrike">
                <a:solidFill>
                  <a:srgbClr val="ffffff"/>
                </a:solidFill>
                <a:latin typeface="PwC_Logo"/>
                <a:cs typeface="PwC_Logo"/>
              </a:rPr>
              <a:t>الخارجى</a:t>
            </a:r>
            <a:r>
              <a:rPr b="0" lang="ar-SA" sz="28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2800" spc="-1" strike="noStrike">
                <a:solidFill>
                  <a:srgbClr val="ffffff"/>
                </a:solidFill>
                <a:latin typeface="PwC_Logo"/>
                <a:cs typeface="PwC_Logo"/>
              </a:rPr>
              <a:t>لأعمال</a:t>
            </a:r>
            <a:r>
              <a:rPr b="0" lang="ar-SA" sz="28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2800" spc="-1" strike="noStrike">
                <a:solidFill>
                  <a:srgbClr val="ffffff"/>
                </a:solidFill>
                <a:latin typeface="PwC_Logo"/>
                <a:cs typeface="PwC_Logo"/>
              </a:rPr>
              <a:t>المراجعة</a:t>
            </a:r>
            <a:r>
              <a:rPr b="0" lang="ar-SA" sz="28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2800" spc="-1" strike="noStrike">
                <a:solidFill>
                  <a:srgbClr val="ffffff"/>
                </a:solidFill>
                <a:latin typeface="PwC_Logo"/>
                <a:cs typeface="PwC_Logo"/>
              </a:rPr>
              <a:t>الداخلية</a:t>
            </a:r>
            <a:endParaRPr b="0" lang="en-US" sz="2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0" y="851040"/>
            <a:ext cx="862956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109000"/>
              </a:lnSpc>
              <a:spcBef>
                <a:spcPts val="15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171880" y="2131920"/>
            <a:ext cx="6049800" cy="77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marL="952560" indent="-851040" algn="r" rtl="1">
              <a:lnSpc>
                <a:spcPct val="99000"/>
              </a:lnSpc>
              <a:buClr>
                <a:srgbClr val="3399ff"/>
              </a:buClr>
              <a:buSzPct val="15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دى استقلالية المراجع الداخلى وموضوعيته</a:t>
            </a: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984400" y="3110040"/>
            <a:ext cx="5224680" cy="40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marL="952560" indent="-952560" algn="r" rtl="1">
              <a:lnSpc>
                <a:spcPct val="99000"/>
              </a:lnSpc>
              <a:buClr>
                <a:srgbClr val="3399ff"/>
              </a:buClr>
              <a:buSzPct val="15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طاق عمل المراجع الداخلى</a:t>
            </a: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022560" y="4240080"/>
            <a:ext cx="5224680" cy="77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marL="952560" indent="-952560" algn="r" rtl="1">
              <a:lnSpc>
                <a:spcPct val="99000"/>
              </a:lnSpc>
              <a:buClr>
                <a:srgbClr val="3399ff"/>
              </a:buClr>
              <a:buSzPct val="15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كفأة المهنية للمراجعين الداخلييين</a:t>
            </a: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2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0" y="0"/>
            <a:ext cx="9144000" cy="1273320"/>
          </a:xfrm>
          <a:prstGeom prst="rect">
            <a:avLst/>
          </a:prstGeom>
          <a:solidFill>
            <a:srgbClr val="263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pic>
        <p:nvPicPr>
          <p:cNvPr id="255" name="Boatblueoverlay" descr=""/>
          <p:cNvPicPr/>
          <p:nvPr/>
        </p:nvPicPr>
        <p:blipFill>
          <a:blip r:embed="rId1"/>
          <a:stretch/>
        </p:blipFill>
        <p:spPr>
          <a:xfrm>
            <a:off x="7848720" y="101520"/>
            <a:ext cx="1143000" cy="86832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7061040" y="645012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848720" y="100080"/>
            <a:ext cx="1143000" cy="868320"/>
          </a:xfrm>
          <a:prstGeom prst="rect">
            <a:avLst/>
          </a:prstGeom>
          <a:noFill/>
          <a:ln w="9360">
            <a:solidFill>
              <a:srgbClr val="ffe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20640" y="228600"/>
            <a:ext cx="7218360" cy="7113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edecfe"/>
                </a:solidFill>
                <a:latin typeface="Times New Roman"/>
                <a:cs typeface="Times New Roman"/>
              </a:rPr>
              <a:t>مدى استقلالية المراجع الداخلى وموضوعيته</a:t>
            </a: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0" y="851040"/>
            <a:ext cx="862956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109000"/>
              </a:lnSpc>
              <a:spcBef>
                <a:spcPts val="15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130720" y="1522440"/>
            <a:ext cx="2959200" cy="82692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028880" y="1496880"/>
            <a:ext cx="2958840" cy="82728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572000" y="2463840"/>
            <a:ext cx="4216320" cy="398772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66760" y="2489040"/>
            <a:ext cx="4216320" cy="398808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361120" y="1700280"/>
            <a:ext cx="250308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وقع التنظيمى</a:t>
            </a: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855800" y="1700280"/>
            <a:ext cx="1617840" cy="40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وضوعية</a:t>
            </a: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606920" y="2523960"/>
            <a:ext cx="4189320" cy="89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marL="558720" indent="-457200" algn="r" rtl="1">
              <a:lnSpc>
                <a:spcPct val="99000"/>
              </a:lnSpc>
              <a:buClr>
                <a:srgbClr val="111111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ن يكون مدير المراجعة الداخلية مسئولا امام شخص له من السلطة  ما يضمن الأهتمام بتقريره ووضع توصياته محل التنفيذ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606920" y="3260880"/>
            <a:ext cx="4189320" cy="4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marL="558720" indent="-457200" algn="r" rtl="1">
              <a:lnSpc>
                <a:spcPct val="99000"/>
              </a:lnSpc>
              <a:buClr>
                <a:srgbClr val="111111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ن يكون لمدير المراجعة الداخلية اتصال مباشر مع مجلس الأدارة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632480" y="3870360"/>
            <a:ext cx="418932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marL="558720" indent="-457200" algn="r" rtl="1">
              <a:lnSpc>
                <a:spcPct val="99000"/>
              </a:lnSpc>
              <a:buClr>
                <a:srgbClr val="111111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أعتماد مجلس الأدارة لتعيين اوتغيير مدير المراجعة الداخلية يساعد على تدعيم استقلاليته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683240" y="4606920"/>
            <a:ext cx="4189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marL="571680" indent="-457200" algn="r" rtl="1">
              <a:lnSpc>
                <a:spcPct val="99000"/>
              </a:lnSpc>
              <a:buClr>
                <a:srgbClr val="111111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جود توصيف موثق لسلطات ومسئوليات مدير المراجعة الداخلية يتتضمن :-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571680" indent="-45720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ضع الأدارة فى الهيكل التنظيمى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571680" indent="-45720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حق المراجع فى الأطلاع على كافة المستندات والأتصال بالأفراد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571680" indent="-45720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صف مجال عمل المراجعة الداخلية ومداه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556160" y="5952960"/>
            <a:ext cx="418932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marL="457200" indent="-457200" algn="r" rtl="1">
              <a:lnSpc>
                <a:spcPct val="99000"/>
              </a:lnSpc>
              <a:buClr>
                <a:srgbClr val="111111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قديم تقريره السنوى الى مجلس الأدارة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76120" y="2511360"/>
            <a:ext cx="4189680" cy="89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marL="457200" indent="-355680" algn="r" rtl="1">
              <a:lnSpc>
                <a:spcPct val="99000"/>
              </a:lnSpc>
              <a:buClr>
                <a:srgbClr val="111111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لايتولى المراجعون اعمال تنفيذية وفى حالة نقل شخص الى الأدارة يجب الأ يراجع الجهة التى كان بها قبل فترة زمنية مناسبة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1680" y="3286080"/>
            <a:ext cx="418932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355680" algn="r" rtl="1">
              <a:lnSpc>
                <a:spcPct val="99000"/>
              </a:lnSpc>
              <a:buClr>
                <a:srgbClr val="111111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راعى  تكليف المراجعيين بأعمال فى مجالات لاتكون بينهم وبين المسئولين عنها خلافات شخصية اوتحيز لصالحهم اوضدهم 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76120" y="4073400"/>
            <a:ext cx="418968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355680" algn="r" rtl="1">
              <a:lnSpc>
                <a:spcPct val="99000"/>
              </a:lnSpc>
              <a:buClr>
                <a:srgbClr val="111111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على مدير المراجعة ان يغير مجال عمل المراجعين دوريا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76120" y="4403880"/>
            <a:ext cx="41896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355680" algn="r" rtl="1">
              <a:lnSpc>
                <a:spcPct val="99000"/>
              </a:lnSpc>
              <a:buClr>
                <a:srgbClr val="111111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على المراجع الداخلى ان يوضح لمديره أى احتمالات نقص حياد نتيجة تعامله مع الأشخاص المكلف بمراجعة اعمالهم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6120" y="4924440"/>
            <a:ext cx="4189680" cy="84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355680" algn="r" rtl="1">
              <a:lnSpc>
                <a:spcPct val="99000"/>
              </a:lnSpc>
              <a:buClr>
                <a:srgbClr val="111111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عرض نتائج المراجعة على الأشخاص الذين تمت مراجعة اعمالهم قبل تقديم تقريره النهائى لضمان الموضوعية ومنعا لحدوث لبس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6120" y="5775480"/>
            <a:ext cx="4189680" cy="105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355680" algn="r" rtl="1">
              <a:lnSpc>
                <a:spcPct val="99000"/>
              </a:lnSpc>
              <a:buClr>
                <a:srgbClr val="111111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لاتتأثر استقلالية المراجع اذا اوصى بتطبيق معايير رقابية معينة للنظم او اذا فحص الأجراءات وعلق عليها قبل تنفيذها  , تصميم النظم وتطبيقها ليس من وظائف المراجعة الداخلية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2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0" y="0"/>
            <a:ext cx="9144000" cy="1273320"/>
          </a:xfrm>
          <a:prstGeom prst="rect">
            <a:avLst/>
          </a:prstGeom>
          <a:solidFill>
            <a:srgbClr val="263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pic>
        <p:nvPicPr>
          <p:cNvPr id="278" name="Boatblueoverlay" descr=""/>
          <p:cNvPicPr/>
          <p:nvPr/>
        </p:nvPicPr>
        <p:blipFill>
          <a:blip r:embed="rId1"/>
          <a:stretch/>
        </p:blipFill>
        <p:spPr>
          <a:xfrm>
            <a:off x="7848720" y="101520"/>
            <a:ext cx="1143000" cy="86832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/>
          <p:nvPr/>
        </p:nvSpPr>
        <p:spPr>
          <a:xfrm>
            <a:off x="7061040" y="645012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848720" y="100080"/>
            <a:ext cx="1143000" cy="868320"/>
          </a:xfrm>
          <a:prstGeom prst="rect">
            <a:avLst/>
          </a:prstGeom>
          <a:noFill/>
          <a:ln w="9360">
            <a:solidFill>
              <a:srgbClr val="ffe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977760" y="228600"/>
            <a:ext cx="6531120" cy="7113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تحديد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نطاق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عمل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مراجع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داخلية</a:t>
            </a:r>
            <a:endParaRPr b="0" lang="en-US" sz="3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0" y="851040"/>
            <a:ext cx="862956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109000"/>
              </a:lnSpc>
              <a:spcBef>
                <a:spcPts val="15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562720" y="4229280"/>
            <a:ext cx="2806560" cy="81252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524560" y="2690640"/>
            <a:ext cx="2806560" cy="81288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549760" y="5613480"/>
            <a:ext cx="2806920" cy="79992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270080" y="1332000"/>
            <a:ext cx="6375240" cy="73476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811080" y="2755800"/>
            <a:ext cx="2806920" cy="80028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887400" y="5600880"/>
            <a:ext cx="2806560" cy="79992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912960" y="4278240"/>
            <a:ext cx="2806560" cy="80028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041480" y="1700280"/>
            <a:ext cx="7581960" cy="3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مكن تقسيم اعمال المراجعة الداخلية الى فرعين اساسيين</a:t>
            </a:r>
            <a:endParaRPr b="0" lang="en-US" sz="1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09680" y="2413080"/>
            <a:ext cx="4788000" cy="0"/>
          </a:xfrm>
          <a:prstGeom prst="line">
            <a:avLst/>
          </a:prstGeom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4320" tIns="-46800" bIns="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209680" y="2425680"/>
            <a:ext cx="0" cy="31752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997680" y="2425680"/>
            <a:ext cx="0" cy="27936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546440" y="2146320"/>
            <a:ext cx="0" cy="266760"/>
          </a:xfrm>
          <a:prstGeom prst="line">
            <a:avLst/>
          </a:prstGeom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390280" y="2854440"/>
            <a:ext cx="299700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لمراجعة المحاسبية والمالي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ancial/Accounting Audit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88440" y="2828880"/>
            <a:ext cx="3794040" cy="7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راجعة العمليات او المراجعة الأداري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rational Audit/ 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ment Audit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985080" y="3517920"/>
            <a:ext cx="0" cy="71136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972480" y="5054760"/>
            <a:ext cx="0" cy="60948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446440" y="4467240"/>
            <a:ext cx="281736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حص وتقييم نظم الرقابة</a:t>
            </a:r>
            <a:r>
              <a:rPr b="1" lang="ar-EG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حاسبية  بالمنشأ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968360" y="5661000"/>
            <a:ext cx="38383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حص المعلومات التى تصدرها النظم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حاسبية للتأكد من مصداقيتها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235240" y="3568680"/>
            <a:ext cx="0" cy="69840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52240" y="4378320"/>
            <a:ext cx="35899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راجعة وتقييم نظم إدارة المخاطر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الحوكم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209680" y="5079960"/>
            <a:ext cx="0" cy="52092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28840" y="5749920"/>
            <a:ext cx="383184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راجعة الجوانب الغير محاسبي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راجعة الأدارية , مراجعة العمليات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2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0" y="0"/>
            <a:ext cx="9144000" cy="1273320"/>
          </a:xfrm>
          <a:prstGeom prst="rect">
            <a:avLst/>
          </a:prstGeom>
          <a:solidFill>
            <a:srgbClr val="263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pic>
        <p:nvPicPr>
          <p:cNvPr id="306" name="Boatblueoverlay" descr=""/>
          <p:cNvPicPr/>
          <p:nvPr/>
        </p:nvPicPr>
        <p:blipFill>
          <a:blip r:embed="rId1"/>
          <a:stretch/>
        </p:blipFill>
        <p:spPr>
          <a:xfrm>
            <a:off x="7848720" y="101520"/>
            <a:ext cx="1143000" cy="868320"/>
          </a:xfrm>
          <a:prstGeom prst="rect">
            <a:avLst/>
          </a:prstGeom>
          <a:ln w="0">
            <a:noFill/>
          </a:ln>
        </p:spPr>
      </p:pic>
      <p:sp>
        <p:nvSpPr>
          <p:cNvPr id="307" name=""/>
          <p:cNvSpPr/>
          <p:nvPr/>
        </p:nvSpPr>
        <p:spPr>
          <a:xfrm>
            <a:off x="7061040" y="645012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848720" y="100080"/>
            <a:ext cx="1143000" cy="868320"/>
          </a:xfrm>
          <a:prstGeom prst="rect">
            <a:avLst/>
          </a:prstGeom>
          <a:noFill/>
          <a:ln w="9360">
            <a:solidFill>
              <a:srgbClr val="ffe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977760" y="228600"/>
            <a:ext cx="6531120" cy="7113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تحديد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نطاق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عمل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مراجع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داخلية</a:t>
            </a:r>
            <a:endParaRPr b="0" lang="en-US" sz="3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0" y="851040"/>
            <a:ext cx="862956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109000"/>
              </a:lnSpc>
              <a:spcBef>
                <a:spcPts val="15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20640" y="1700280"/>
            <a:ext cx="8218440" cy="63648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596240" y="1878120"/>
            <a:ext cx="8422200" cy="2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طبقا للمفاهيم الحديثة فان نطاق عمل المراجعة الداخلية يمتد ليشمل مجالات متعددة 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0640" y="2463840"/>
            <a:ext cx="8231400" cy="762120"/>
          </a:xfrm>
          <a:prstGeom prst="flowChartProcess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-908280" y="2714760"/>
            <a:ext cx="11468880" cy="2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r" rtl="1">
              <a:lnSpc>
                <a:spcPct val="99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هتم المراجع الخارجى المكلف بمراجعة القوائم المالية بنطاق عمل المراجع الداخلى فى المجالات المحاسبية والمالي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20640" y="3403440"/>
            <a:ext cx="8231400" cy="762120"/>
          </a:xfrm>
          <a:prstGeom prst="flowChartProcess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-63360" y="3565440"/>
            <a:ext cx="10357920" cy="2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لى المراجع الداخلى فحص برامج المراجعة الداخلية واوراق عملها لتحديد المجالات التى شملتها المراجع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2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0" y="0"/>
            <a:ext cx="9144000" cy="1273320"/>
          </a:xfrm>
          <a:prstGeom prst="rect">
            <a:avLst/>
          </a:prstGeom>
          <a:solidFill>
            <a:srgbClr val="263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pic>
        <p:nvPicPr>
          <p:cNvPr id="318" name="Boatblueoverlay" descr=""/>
          <p:cNvPicPr/>
          <p:nvPr/>
        </p:nvPicPr>
        <p:blipFill>
          <a:blip r:embed="rId1"/>
          <a:stretch/>
        </p:blipFill>
        <p:spPr>
          <a:xfrm>
            <a:off x="7848720" y="101520"/>
            <a:ext cx="1143000" cy="868320"/>
          </a:xfrm>
          <a:prstGeom prst="rect">
            <a:avLst/>
          </a:prstGeom>
          <a:ln w="0">
            <a:noFill/>
          </a:ln>
        </p:spPr>
      </p:pic>
      <p:sp>
        <p:nvSpPr>
          <p:cNvPr id="319" name=""/>
          <p:cNvSpPr/>
          <p:nvPr/>
        </p:nvSpPr>
        <p:spPr>
          <a:xfrm>
            <a:off x="7061040" y="645012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848720" y="100080"/>
            <a:ext cx="1143000" cy="868320"/>
          </a:xfrm>
          <a:prstGeom prst="rect">
            <a:avLst/>
          </a:prstGeom>
          <a:noFill/>
          <a:ln w="9360">
            <a:solidFill>
              <a:srgbClr val="ffe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977760" y="228600"/>
            <a:ext cx="6531120" cy="7113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كفأ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مهني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للمراجعين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داخليين</a:t>
            </a:r>
            <a:endParaRPr b="0" lang="en-US" sz="3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0" y="851040"/>
            <a:ext cx="862956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109000"/>
              </a:lnSpc>
              <a:spcBef>
                <a:spcPts val="15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20640" y="1700280"/>
            <a:ext cx="8218440" cy="63648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2464200" y="1878120"/>
            <a:ext cx="7421040" cy="2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عطاء اهتمام خاص بدراسة وتقييم الكفأة المهنية للمراجعين الداخلية 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20640" y="2463840"/>
            <a:ext cx="8231400" cy="762120"/>
          </a:xfrm>
          <a:prstGeom prst="flowChartProcess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20640" y="3403440"/>
            <a:ext cx="8231400" cy="762120"/>
          </a:xfrm>
          <a:prstGeom prst="flowChartProcess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705920" y="3565440"/>
            <a:ext cx="4732920" cy="2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توافر الكفأة المهنية بالأضافة للأستقلالي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44600" y="2525760"/>
            <a:ext cx="839628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شمل تقييم مؤهلاتهم العلمية وخبراتهم العملية وعلاقتها بأعمال المراجعة المسندة لهم, بالأ ضافة  الى خبرة المراجع الخارجى السابقة فى التعامل معهم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2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0" y="0"/>
            <a:ext cx="9144000" cy="1273320"/>
          </a:xfrm>
          <a:prstGeom prst="rect">
            <a:avLst/>
          </a:prstGeom>
          <a:solidFill>
            <a:srgbClr val="263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pic>
        <p:nvPicPr>
          <p:cNvPr id="330" name="Boatblueoverlay" descr=""/>
          <p:cNvPicPr/>
          <p:nvPr/>
        </p:nvPicPr>
        <p:blipFill>
          <a:blip r:embed="rId1"/>
          <a:stretch/>
        </p:blipFill>
        <p:spPr>
          <a:xfrm>
            <a:off x="7848720" y="101520"/>
            <a:ext cx="1143000" cy="868320"/>
          </a:xfrm>
          <a:prstGeom prst="rect">
            <a:avLst/>
          </a:prstGeom>
          <a:ln w="0">
            <a:noFill/>
          </a:ln>
        </p:spPr>
      </p:pic>
      <p:sp>
        <p:nvSpPr>
          <p:cNvPr id="331" name=""/>
          <p:cNvSpPr/>
          <p:nvPr/>
        </p:nvSpPr>
        <p:spPr>
          <a:xfrm>
            <a:off x="7061040" y="645012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7848720" y="100080"/>
            <a:ext cx="1143000" cy="868320"/>
          </a:xfrm>
          <a:prstGeom prst="rect">
            <a:avLst/>
          </a:prstGeom>
          <a:noFill/>
          <a:ln w="9360">
            <a:solidFill>
              <a:srgbClr val="ffe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977760" y="228600"/>
            <a:ext cx="6531120" cy="7113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تقييم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عمل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معين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من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عمال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مراجع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</a:t>
            </a:r>
            <a:r>
              <a:rPr b="0" lang="en-GB" sz="3200" spc="-1" strike="noStrike">
                <a:solidFill>
                  <a:srgbClr val="ffffff"/>
                </a:solidFill>
                <a:latin typeface="PwC_Logo"/>
                <a:cs typeface="PwC_Logo"/>
              </a:rPr>
              <a:t>د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خلي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PwC_Logo"/>
                <a:cs typeface="PwC_Logo"/>
              </a:rPr>
              <a:t>ب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غرض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عتماد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مراجع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خارجى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عليه</a:t>
            </a:r>
            <a:endParaRPr b="0" lang="en-US" sz="3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0" y="851040"/>
            <a:ext cx="862956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109000"/>
              </a:lnSpc>
              <a:spcBef>
                <a:spcPts val="15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20640" y="1332000"/>
            <a:ext cx="8129520" cy="96336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041480" y="1700280"/>
            <a:ext cx="758196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ذا قرر المراجع الخارجى استخدام عمل محدد من اعمال المراجعة الداخلية والأعتماد عليه كأساس لتحديد طبيعة وتوقيت ومدى إجراءات مراجعته فيجب عليه التأكد مما يلى</a:t>
            </a:r>
            <a:endParaRPr b="0" lang="en-US" sz="1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20640" y="2463840"/>
            <a:ext cx="8167680" cy="398772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20640" y="2854440"/>
            <a:ext cx="8137440" cy="2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marL="457200" indent="-457200" algn="r" rtl="1">
              <a:lnSpc>
                <a:spcPct val="99000"/>
              </a:lnSpc>
              <a:buClr>
                <a:srgbClr val="111111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كفاية نطاق وبرامج المراجعة الداخلية لاغراض المراجع الخارجى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20640" y="3260880"/>
            <a:ext cx="8137440" cy="2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marL="457200" indent="-457200" algn="r" rtl="1">
              <a:lnSpc>
                <a:spcPct val="99000"/>
              </a:lnSpc>
              <a:buClr>
                <a:srgbClr val="111111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سلامة التخطيط لعمل المراجعة الداخلية 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20640" y="3654360"/>
            <a:ext cx="8137440" cy="2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marL="457200" indent="-457200" algn="r" rtl="1">
              <a:lnSpc>
                <a:spcPct val="99000"/>
              </a:lnSpc>
              <a:buClr>
                <a:srgbClr val="111111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وافر الأشراف على اعمال المساعدين وفحص وتسجيل اعمالهم 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20640" y="4060800"/>
            <a:ext cx="813744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marL="457200" indent="-457200" algn="r" rtl="1">
              <a:lnSpc>
                <a:spcPct val="99000"/>
              </a:lnSpc>
              <a:buClr>
                <a:srgbClr val="111111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حصول على ادلة اثبات مناسبة وكافية تصلح كأساس للنتائج التى تم التوصل اليها 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33240" y="4467240"/>
            <a:ext cx="813780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marL="457200" indent="-457200" algn="r" rtl="1">
              <a:lnSpc>
                <a:spcPct val="99000"/>
              </a:lnSpc>
              <a:buClr>
                <a:srgbClr val="111111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صحة النتائج التى تم التوصل اليها فى ضوء الظروف المحيطة وان التقارير المعدة متفقة مع هذه النتائج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20640" y="4861080"/>
            <a:ext cx="813744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marL="457200" indent="-457200" algn="r" rtl="1">
              <a:lnSpc>
                <a:spcPct val="99000"/>
              </a:lnSpc>
              <a:buClr>
                <a:srgbClr val="111111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ن اية موضوعات غير عادية كشفت عنها اعمال المراجعة الداخلية قد تم ايضاحها أو تسويتها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Blackpearl%20w%5B047%5Dcopy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569880" y="603360"/>
            <a:ext cx="7777080" cy="46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9900"/>
                </a:solidFill>
                <a:latin typeface="PwC_Logo"/>
                <a:cs typeface="PwC_Logo"/>
              </a:rPr>
              <a:t>الفصل</a:t>
            </a:r>
            <a:r>
              <a:rPr b="0" lang="en-GB" sz="24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2400" spc="-1" strike="noStrike">
                <a:solidFill>
                  <a:srgbClr val="ff9900"/>
                </a:solidFill>
                <a:latin typeface="PwC_Logo"/>
                <a:cs typeface="PwC_Logo"/>
              </a:rPr>
              <a:t>التاسع</a:t>
            </a: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cs typeface="PwC_Logo"/>
              </a:rPr>
              <a:t>العلاقة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cs typeface="PwC_Logo"/>
              </a:rPr>
              <a:t>بين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cs typeface="PwC_Logo"/>
              </a:rPr>
              <a:t>المراجعة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cs typeface="PwC_Logo"/>
              </a:rPr>
              <a:t>الخارجية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cs typeface="PwC_Logo"/>
              </a:rPr>
              <a:t>والمراجعة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cs typeface="PwC_Logo"/>
              </a:rPr>
              <a:t>الداخلية</a:t>
            </a:r>
            <a:endParaRPr b="0" lang="en-US" sz="3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9900"/>
                </a:solidFill>
                <a:latin typeface="PwC_Logo"/>
                <a:cs typeface="PwC_Logo"/>
              </a:rPr>
              <a:t>أحمد</a:t>
            </a:r>
            <a:r>
              <a:rPr b="0" lang="ar-SA" sz="20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2000" spc="-1" strike="noStrike">
                <a:solidFill>
                  <a:srgbClr val="ff9900"/>
                </a:solidFill>
                <a:latin typeface="PwC_Logo"/>
                <a:cs typeface="PwC_Logo"/>
              </a:rPr>
              <a:t>جمال</a:t>
            </a:r>
            <a:r>
              <a:rPr b="0" lang="ar-SA" sz="2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حمدالله</a:t>
            </a:r>
            <a:endParaRPr b="0" lang="en-US" sz="18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9900"/>
                </a:solidFill>
                <a:latin typeface="PwC_Logo"/>
                <a:cs typeface="PwC_Logo"/>
              </a:rPr>
              <a:t>ز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ميل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جمعية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المحاسبين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والمراجعي</a:t>
            </a:r>
            <a:r>
              <a:rPr b="0" lang="en-GB" sz="1800" spc="-1" strike="noStrike">
                <a:solidFill>
                  <a:srgbClr val="ff9900"/>
                </a:solidFill>
                <a:latin typeface="PwC_Logo"/>
                <a:cs typeface="PwC_Logo"/>
              </a:rPr>
              <a:t>ن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المصرية</a:t>
            </a:r>
            <a:endParaRPr b="0" lang="en-US" sz="18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9900"/>
                </a:solidFill>
                <a:latin typeface="PwC_Logo"/>
                <a:cs typeface="PwC_Logo"/>
              </a:rPr>
              <a:t>م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نصور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وشركاهم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برايس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وترهاوس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كوبرز</a:t>
            </a:r>
            <a:endParaRPr b="0" lang="en-US" sz="18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PwC_Logo"/>
                <a:ea typeface="PwC_Logo"/>
              </a:rPr>
              <a:t></a:t>
            </a:r>
            <a:endParaRPr b="0" lang="en-US" sz="32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2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9144000" cy="1273320"/>
          </a:xfrm>
          <a:prstGeom prst="rect">
            <a:avLst/>
          </a:prstGeom>
          <a:solidFill>
            <a:srgbClr val="263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pic>
        <p:nvPicPr>
          <p:cNvPr id="89" name="Boatblueoverlay" descr=""/>
          <p:cNvPicPr/>
          <p:nvPr/>
        </p:nvPicPr>
        <p:blipFill>
          <a:blip r:embed="rId1"/>
          <a:stretch/>
        </p:blipFill>
        <p:spPr>
          <a:xfrm>
            <a:off x="7848720" y="101520"/>
            <a:ext cx="1143000" cy="8683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061040" y="645012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848720" y="100080"/>
            <a:ext cx="1143000" cy="868320"/>
          </a:xfrm>
          <a:prstGeom prst="rect">
            <a:avLst/>
          </a:prstGeom>
          <a:noFill/>
          <a:ln w="9360">
            <a:solidFill>
              <a:srgbClr val="ffe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77760" y="228600"/>
            <a:ext cx="6531120" cy="7113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علاق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بين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مراجع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خارجي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والمراجع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داخلية</a:t>
            </a:r>
            <a:endParaRPr b="0" lang="en-US" sz="3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851040"/>
            <a:ext cx="862956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109000"/>
              </a:lnSpc>
              <a:spcBef>
                <a:spcPts val="15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948480" y="1525680"/>
            <a:ext cx="308232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أهداف المراجعة الداخلية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579840" y="1957320"/>
            <a:ext cx="352152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طاق عمل المراجعة الداخلية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430440" y="2490840"/>
            <a:ext cx="3560760" cy="65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algn="ct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Arial"/>
              </a:rPr>
              <a:t>المفهوم الحديث للمراجعة الداخلية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992320" y="3036960"/>
            <a:ext cx="425124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Arial"/>
              </a:rPr>
              <a:t>المفاهيم الأساسية للتعريف الحديث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608280" y="3544920"/>
            <a:ext cx="353232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marL="380880"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- تقارير المراجعة الداخلية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630960" y="4154400"/>
            <a:ext cx="337968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علاقة مع المراجع الخارجى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035160" y="4751280"/>
            <a:ext cx="3756240" cy="65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فحص وتقييم عمل المراجع الداخلى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980360" y="5322960"/>
            <a:ext cx="523296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تقييم عمل معين من اعمال المراجعة الداخلية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2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9144000" cy="1273320"/>
          </a:xfrm>
          <a:prstGeom prst="rect">
            <a:avLst/>
          </a:prstGeom>
          <a:solidFill>
            <a:srgbClr val="263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pic>
        <p:nvPicPr>
          <p:cNvPr id="103" name="Boatblueoverlay" descr=""/>
          <p:cNvPicPr/>
          <p:nvPr/>
        </p:nvPicPr>
        <p:blipFill>
          <a:blip r:embed="rId1"/>
          <a:stretch/>
        </p:blipFill>
        <p:spPr>
          <a:xfrm>
            <a:off x="7848720" y="101520"/>
            <a:ext cx="1143000" cy="86832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7061040" y="645012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848720" y="100080"/>
            <a:ext cx="1143000" cy="868320"/>
          </a:xfrm>
          <a:prstGeom prst="rect">
            <a:avLst/>
          </a:prstGeom>
          <a:noFill/>
          <a:ln w="9360">
            <a:solidFill>
              <a:srgbClr val="ffe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977760" y="228600"/>
            <a:ext cx="6531120" cy="7113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أهداف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مراجع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داخلي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endParaRPr b="0" lang="en-US" sz="3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851040"/>
            <a:ext cx="862956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109000"/>
              </a:lnSpc>
              <a:spcBef>
                <a:spcPts val="15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929200" y="3071880"/>
            <a:ext cx="294984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حص وتقييم انظمة الرقاب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تطويرها بتكاليف مناسبة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994360" y="4533840"/>
            <a:ext cx="2806920" cy="81288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058080" y="2995560"/>
            <a:ext cx="2806560" cy="74952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619440" y="5880240"/>
            <a:ext cx="2806920" cy="79992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-495360" y="4214880"/>
            <a:ext cx="3657600" cy="7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تاكد من الألتزام بالخطط والسياسات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والأجراءات الأداري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20640" y="1397160"/>
            <a:ext cx="7837560" cy="110304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76040" y="2946240"/>
            <a:ext cx="2883240" cy="80028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90520" y="5168880"/>
            <a:ext cx="2806560" cy="80028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28600" y="4011480"/>
            <a:ext cx="2806560" cy="80028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15920" y="5305320"/>
            <a:ext cx="2992320" cy="7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algn="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تأكد من صحة وسلامة المعلومات الصادرة عن نظام المعلومات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70640" y="4809960"/>
            <a:ext cx="1879920" cy="2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قييم كفأة الأداء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537000" y="6004080"/>
            <a:ext cx="3041640" cy="101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algn="just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قديم التوصيات اللازمة لتحسين الخطط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just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والنظم والسياسات والأجراءات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041480" y="1700280"/>
            <a:ext cx="758196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هدف المراجعة الداخلية الى مساعدة الأدارة فى القيام بوظائفها عن طريق امدادها بالتحليل والتقييم المناسب للأنشطة التى يتولى مراجعتها </a:t>
            </a:r>
            <a:r>
              <a:rPr b="1" lang="ar-SA" sz="1600" spc="-1" strike="noStrike" u="sng">
                <a:solidFill>
                  <a:srgbClr val="000000"/>
                </a:solidFill>
                <a:uFillTx/>
                <a:latin typeface="Times New Roman"/>
                <a:cs typeface="Times New Roman"/>
              </a:rPr>
              <a:t>من خلال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3060360" y="3213000"/>
            <a:ext cx="1638360" cy="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-46800" bIns="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3048120" y="4292640"/>
            <a:ext cx="1650960" cy="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-46800" bIns="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3098880" y="5397480"/>
            <a:ext cx="1587600" cy="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-46800" bIns="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724280" y="2552760"/>
            <a:ext cx="0" cy="334008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724280" y="3441600"/>
            <a:ext cx="1333800" cy="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-46800" bIns="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711680" y="4851360"/>
            <a:ext cx="1295280" cy="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-46800" bIns="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16000" y="3006720"/>
            <a:ext cx="3136680" cy="7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تاكد من حماية اصول الشركة من الأختلاس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والضياع أو سوء الأستخدام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2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9144000" cy="1273320"/>
          </a:xfrm>
          <a:prstGeom prst="rect">
            <a:avLst/>
          </a:prstGeom>
          <a:solidFill>
            <a:srgbClr val="263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pic>
        <p:nvPicPr>
          <p:cNvPr id="129" name="Boatblueoverlay" descr=""/>
          <p:cNvPicPr/>
          <p:nvPr/>
        </p:nvPicPr>
        <p:blipFill>
          <a:blip r:embed="rId1"/>
          <a:stretch/>
        </p:blipFill>
        <p:spPr>
          <a:xfrm>
            <a:off x="7848720" y="101520"/>
            <a:ext cx="1143000" cy="86832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7061040" y="645012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848720" y="100080"/>
            <a:ext cx="1143000" cy="868320"/>
          </a:xfrm>
          <a:prstGeom prst="rect">
            <a:avLst/>
          </a:prstGeom>
          <a:noFill/>
          <a:ln w="9360">
            <a:solidFill>
              <a:srgbClr val="ffe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977760" y="228600"/>
            <a:ext cx="6531120" cy="7113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نطاق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عمل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مراجع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داخلي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endParaRPr b="0" lang="en-US" sz="3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851040"/>
            <a:ext cx="862956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109000"/>
              </a:lnSpc>
              <a:spcBef>
                <a:spcPts val="15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562720" y="4229280"/>
            <a:ext cx="2806560" cy="81252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524560" y="2690640"/>
            <a:ext cx="2806560" cy="81288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549760" y="5613480"/>
            <a:ext cx="2806920" cy="79992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257480" y="1397160"/>
            <a:ext cx="6375240" cy="73476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11080" y="2755800"/>
            <a:ext cx="2806920" cy="80028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87400" y="5600880"/>
            <a:ext cx="2806560" cy="79992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912960" y="4278240"/>
            <a:ext cx="2806560" cy="80028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965160" y="1541520"/>
            <a:ext cx="758196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مكن تقسيم اعمال المراجعة الداخلية الى فرعين اساسيين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09680" y="2413080"/>
            <a:ext cx="4788000" cy="0"/>
          </a:xfrm>
          <a:prstGeom prst="line">
            <a:avLst/>
          </a:prstGeom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4320" tIns="-46800" bIns="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09680" y="2425680"/>
            <a:ext cx="0" cy="31752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997680" y="2425680"/>
            <a:ext cx="0" cy="27936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546440" y="2146320"/>
            <a:ext cx="0" cy="266760"/>
          </a:xfrm>
          <a:prstGeom prst="line">
            <a:avLst/>
          </a:prstGeom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390280" y="2854440"/>
            <a:ext cx="299700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لمراجعة المحاسبية والمالي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ancial/Accounting Audit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88440" y="2828880"/>
            <a:ext cx="3794040" cy="7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راجعة العمليات او المراجعة الأداري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rational Audit/ 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ment Audit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985080" y="3517920"/>
            <a:ext cx="0" cy="71136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972480" y="5054760"/>
            <a:ext cx="0" cy="60948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446440" y="4467240"/>
            <a:ext cx="281736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حص وتقييم نظم الرقابة</a:t>
            </a:r>
            <a:r>
              <a:rPr b="1" lang="ar-EG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حاسبية  بالمنشأ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968360" y="5661000"/>
            <a:ext cx="38383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حص المعلومات التى تصدرها النظم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حاسبية للتأكد من مصداقيتها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235240" y="3568680"/>
            <a:ext cx="0" cy="69840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52240" y="4378320"/>
            <a:ext cx="35899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راجعة وتقييم نظم إدارة المخاطر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الحوكم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09680" y="5079960"/>
            <a:ext cx="0" cy="52092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54400" y="5749920"/>
            <a:ext cx="383184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راجعة الجوانب الغير محاسبي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راجعة الأدارية , مراجعة العمليات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2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1273320"/>
          </a:xfrm>
          <a:prstGeom prst="rect">
            <a:avLst/>
          </a:prstGeom>
          <a:solidFill>
            <a:srgbClr val="263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pic>
        <p:nvPicPr>
          <p:cNvPr id="157" name="Boatblueoverlay" descr=""/>
          <p:cNvPicPr/>
          <p:nvPr/>
        </p:nvPicPr>
        <p:blipFill>
          <a:blip r:embed="rId1"/>
          <a:stretch/>
        </p:blipFill>
        <p:spPr>
          <a:xfrm>
            <a:off x="7848720" y="101520"/>
            <a:ext cx="1143000" cy="86832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7061040" y="645012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848720" y="100080"/>
            <a:ext cx="1143000" cy="868320"/>
          </a:xfrm>
          <a:prstGeom prst="rect">
            <a:avLst/>
          </a:prstGeom>
          <a:noFill/>
          <a:ln w="9360">
            <a:solidFill>
              <a:srgbClr val="ffe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977760" y="228600"/>
            <a:ext cx="6531120" cy="7113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مفهوم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حديث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للمراجع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داخلي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endParaRPr b="0" lang="en-US" sz="3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851040"/>
            <a:ext cx="862956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109000"/>
              </a:lnSpc>
              <a:spcBef>
                <a:spcPts val="15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73280" y="3247920"/>
            <a:ext cx="788004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algn="ctr">
              <a:lnSpc>
                <a:spcPct val="99000"/>
              </a:lnSpc>
              <a:buClr>
                <a:srgbClr val="33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راجعة الداخلية نشاط محايد موضوعىاست</a:t>
            </a:r>
            <a:r>
              <a:rPr b="1" lang="ar-EG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ش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رى ومطمئمن , يهدف الى زيادة قيمة عمليات المنشأة وتحسينها. وتساعد المراجعة الداخلية فى تحقيق أهداف المنشأة عن طريق أسلوب منتظم ومنضبط لتقييم وتحسين فعالية إجراأت ادارة المخاطر والرقابة والحوكمة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21240" y="1700280"/>
            <a:ext cx="913392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أصدر مجمع المراجعين الداخليين احدث تعاريفه للمراجعة الداخلية فى 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99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87320" y="2882880"/>
            <a:ext cx="7886880" cy="217188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2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0" y="0"/>
            <a:ext cx="9144000" cy="1273320"/>
          </a:xfrm>
          <a:prstGeom prst="rect">
            <a:avLst/>
          </a:prstGeom>
          <a:solidFill>
            <a:srgbClr val="263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pic>
        <p:nvPicPr>
          <p:cNvPr id="166" name="Boatblueoverlay" descr=""/>
          <p:cNvPicPr/>
          <p:nvPr/>
        </p:nvPicPr>
        <p:blipFill>
          <a:blip r:embed="rId1"/>
          <a:stretch/>
        </p:blipFill>
        <p:spPr>
          <a:xfrm>
            <a:off x="7848720" y="101520"/>
            <a:ext cx="1143000" cy="86832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7061040" y="645012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848720" y="100080"/>
            <a:ext cx="1143000" cy="868320"/>
          </a:xfrm>
          <a:prstGeom prst="rect">
            <a:avLst/>
          </a:prstGeom>
          <a:noFill/>
          <a:ln w="9360">
            <a:solidFill>
              <a:srgbClr val="ffe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77760" y="228600"/>
            <a:ext cx="6531120" cy="7113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مفاهيم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أساسي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مرتبط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بالتعريف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حديث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endParaRPr b="0" lang="en-US" sz="3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851040"/>
            <a:ext cx="862956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109000"/>
              </a:lnSpc>
              <a:spcBef>
                <a:spcPts val="15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-1532160" y="1700280"/>
            <a:ext cx="1250208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أدى تغيير تعريف المراجعة الداخلية الى تغيير مفاهيم المراجعة الداخلية ونطاق عملها على النحو التالى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272360" y="2701800"/>
            <a:ext cx="6174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819840" y="2208240"/>
            <a:ext cx="1638360" cy="111744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936960" y="2208240"/>
            <a:ext cx="1638360" cy="110484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08240" y="2233440"/>
            <a:ext cx="1638000" cy="111780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809760" y="2320920"/>
            <a:ext cx="1690920" cy="7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قييم وتحسين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أجراءات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أدارة المخاطر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714480" y="2346480"/>
            <a:ext cx="1978920" cy="7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قييم وتحسين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إجراءات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رقابة والحوكم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325520" y="2397240"/>
            <a:ext cx="173664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algn="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راجعة الداخلية من خارج المنشأة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603840" y="3782880"/>
            <a:ext cx="2057400" cy="259092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626160" y="3857760"/>
            <a:ext cx="2187720" cy="293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marL="190440" indent="-19044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خاطر الأعمال هى عدم تحقيق الأدارة لأهدافها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  <a:p>
            <a:pPr marL="190440" indent="-190440"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  <a:p>
            <a:pPr marL="190440" indent="-19044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سئولية الأدارة اعداد برنامج مواجهة هذه المخاطر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  <a:p>
            <a:pPr marL="190440" indent="-190440"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  <a:p>
            <a:pPr marL="190440" indent="-19044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ن اهداف المراجعة الداخلية تقييم وتحسين إجراءات إدارة المخاطر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  <a:p>
            <a:pPr marL="190440" indent="-190440" algn="r" rtl="1">
              <a:lnSpc>
                <a:spcPct val="99000"/>
              </a:lnSpc>
              <a:buClr>
                <a:srgbClr val="33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  <a:p>
            <a:pPr marL="190440" indent="-19044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عتبر من انواع المراجعة الأدارية التى تهدف الى تقييم كفاءة وفعالية ادارة المنشأة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797280" y="3808440"/>
            <a:ext cx="2057400" cy="260352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054080" y="3821040"/>
            <a:ext cx="2057400" cy="259092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836880" y="3908520"/>
            <a:ext cx="1974960" cy="30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91960" indent="-29196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رقابة أداة للتأكد من الألتزام بالخطط والسياسات لتحقيق أهداف المنشأة بأقصى قدر ممكن من الكفأة والفاعلية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  <a:p>
            <a:pPr marL="291960" indent="-291960" algn="r" rtl="1">
              <a:lnSpc>
                <a:spcPct val="99000"/>
              </a:lnSpc>
              <a:buClr>
                <a:srgbClr val="33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  <a:p>
            <a:pPr marL="291960" indent="-29196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حوكمة هى مجموعة إجراءات الرقابة التى يمارسها أصحاب المصالح فى المنشأة للرقابة على ما تقوم إدارة المنشأة من إجراءات رقابة وادارة للمخاطر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  <a:p>
            <a:pPr marL="291960" indent="-291960" algn="ctr" rtl="1">
              <a:lnSpc>
                <a:spcPct val="99000"/>
              </a:lnSpc>
              <a:buClr>
                <a:srgbClr val="33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  <a:p>
            <a:pPr marL="291960" indent="-291960" algn="r" rtl="1">
              <a:lnSpc>
                <a:spcPct val="99000"/>
              </a:lnSpc>
              <a:buClr>
                <a:srgbClr val="33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041480" y="3882960"/>
            <a:ext cx="2208240" cy="18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marL="190440" indent="-19044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الموارد المشتركة )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  <a:p>
            <a:pPr marL="190440" indent="-190440"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قيام المراجع الخارجىبجزء من اعمال المراجعة الداخلية وبالتنسيق معها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  <a:p>
            <a:pPr marL="190440" indent="-190440"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  <a:p>
            <a:pPr marL="190440" indent="-19044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الموارد الخارجية)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  <a:p>
            <a:pPr marL="190440" indent="-190440"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قيام المراجع الخارجى بجميع اعمال المراجعة الداخلية 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  <a:p>
            <a:pPr marL="190440" indent="-190440" algn="ct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607160" y="3340080"/>
            <a:ext cx="0" cy="45720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711680" y="3327480"/>
            <a:ext cx="0" cy="48240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108160" y="3365640"/>
            <a:ext cx="0" cy="48240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2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-152280" y="0"/>
            <a:ext cx="9144000" cy="1273320"/>
          </a:xfrm>
          <a:prstGeom prst="rect">
            <a:avLst/>
          </a:prstGeom>
          <a:solidFill>
            <a:srgbClr val="263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pic>
        <p:nvPicPr>
          <p:cNvPr id="189" name="Boatblueoverlay" descr=""/>
          <p:cNvPicPr/>
          <p:nvPr/>
        </p:nvPicPr>
        <p:blipFill>
          <a:blip r:embed="rId1"/>
          <a:stretch/>
        </p:blipFill>
        <p:spPr>
          <a:xfrm>
            <a:off x="7848720" y="101520"/>
            <a:ext cx="1143000" cy="86832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7061040" y="645012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848720" y="100080"/>
            <a:ext cx="1143000" cy="868320"/>
          </a:xfrm>
          <a:prstGeom prst="rect">
            <a:avLst/>
          </a:prstGeom>
          <a:noFill/>
          <a:ln w="9360">
            <a:solidFill>
              <a:srgbClr val="ffe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977760" y="228600"/>
            <a:ext cx="6531120" cy="7113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تق</a:t>
            </a:r>
            <a:r>
              <a:rPr b="0" lang="en-GB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رير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مراجع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داخلية</a:t>
            </a:r>
            <a:endParaRPr b="0" lang="en-US" sz="3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266760"/>
            <a:ext cx="862956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109000"/>
              </a:lnSpc>
              <a:spcBef>
                <a:spcPts val="15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649520" y="3505320"/>
            <a:ext cx="1549440" cy="1003320"/>
          </a:xfrm>
          <a:prstGeom prst="flowChartDocumen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111111"/>
                </a:solidFill>
                <a:latin typeface="Arial"/>
                <a:cs typeface="Arial"/>
              </a:rPr>
              <a:t>التقارير الشهري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111111"/>
                </a:solidFill>
                <a:latin typeface="Arial"/>
                <a:ea typeface="Arial"/>
              </a:rPr>
              <a:t> </a:t>
            </a:r>
            <a:r>
              <a:rPr b="1" lang="ar-SA" sz="1600" spc="-1" strike="noStrike">
                <a:solidFill>
                  <a:srgbClr val="111111"/>
                </a:solidFill>
                <a:latin typeface="Arial"/>
                <a:cs typeface="Arial"/>
              </a:rPr>
              <a:t>والسنوي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000680" y="3429000"/>
            <a:ext cx="1587240" cy="990720"/>
          </a:xfrm>
          <a:prstGeom prst="flowChartDocumen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pPr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300" spc="-1" strike="noStrike">
                <a:solidFill>
                  <a:srgbClr val="111111"/>
                </a:solidFill>
                <a:latin typeface="Times New Roman"/>
                <a:cs typeface="Times New Roman"/>
              </a:rPr>
              <a:t>تقارير ورش العمل عن</a:t>
            </a:r>
            <a:endParaRPr b="0" lang="en-US" sz="1300" spc="-1" strike="noStrike">
              <a:solidFill>
                <a:srgbClr val="111111"/>
              </a:solidFill>
              <a:latin typeface="Times New Roman"/>
            </a:endParaRPr>
          </a:p>
          <a:p>
            <a:pPr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3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 مشاكل المخاطر والرقابة</a:t>
            </a:r>
            <a:endParaRPr b="0" lang="en-US" sz="13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80880" y="1981080"/>
            <a:ext cx="1549440" cy="1003320"/>
          </a:xfrm>
          <a:prstGeom prst="flowChartDocumen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111111"/>
                </a:solidFill>
                <a:latin typeface="Arial"/>
                <a:cs typeface="Arial"/>
              </a:rPr>
              <a:t>تقارير متابع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962520" y="5283360"/>
            <a:ext cx="1549440" cy="1003320"/>
          </a:xfrm>
          <a:prstGeom prst="flowChartDocumen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111111"/>
                </a:solidFill>
                <a:latin typeface="Arial"/>
                <a:cs typeface="Arial"/>
              </a:rPr>
              <a:t>المذكرات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137360" y="1917720"/>
            <a:ext cx="1549440" cy="1003320"/>
          </a:xfrm>
          <a:prstGeom prst="flowChartDocumen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111111"/>
                </a:solidFill>
                <a:latin typeface="Arial"/>
                <a:cs typeface="Arial"/>
              </a:rPr>
              <a:t>مذكرات وتقارير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111111"/>
                </a:solidFill>
                <a:latin typeface="Arial"/>
                <a:ea typeface="Arial"/>
              </a:rPr>
              <a:t> </a:t>
            </a:r>
            <a:r>
              <a:rPr b="1" lang="ar-SA" sz="1600" spc="-1" strike="noStrike">
                <a:solidFill>
                  <a:srgbClr val="111111"/>
                </a:solidFill>
                <a:latin typeface="Arial"/>
                <a:cs typeface="Arial"/>
              </a:rPr>
              <a:t>للمناقش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426360" y="3225960"/>
            <a:ext cx="1549080" cy="1003320"/>
          </a:xfrm>
          <a:prstGeom prst="flowChartDocumen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111111"/>
                </a:solidFill>
                <a:latin typeface="Arial"/>
                <a:cs typeface="Arial"/>
              </a:rPr>
              <a:t>تقارير المخاطر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194440" y="1930320"/>
            <a:ext cx="1549440" cy="1003320"/>
          </a:xfrm>
          <a:prstGeom prst="flowChartDocumen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111111"/>
                </a:solidFill>
                <a:latin typeface="Arial"/>
                <a:cs typeface="Arial"/>
              </a:rPr>
              <a:t>تقارير مدى الألتزام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603520" y="1981080"/>
            <a:ext cx="1549440" cy="1003320"/>
          </a:xfrm>
          <a:prstGeom prst="flowChartDocumen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111111"/>
                </a:solidFill>
                <a:latin typeface="Arial"/>
                <a:cs typeface="Arial"/>
              </a:rPr>
              <a:t>تقرير عن مشروع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945480" y="5283360"/>
            <a:ext cx="1549080" cy="1003320"/>
          </a:xfrm>
          <a:prstGeom prst="flowChartDocumen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111111"/>
                </a:solidFill>
                <a:latin typeface="Arial"/>
                <a:cs typeface="Arial"/>
              </a:rPr>
              <a:t>التقارير الرسمي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767560" y="1413000"/>
            <a:ext cx="3448080" cy="2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أنواع التقارير من حيث  المضمون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794200" y="4746600"/>
            <a:ext cx="3130920" cy="2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نواع التقارير من حيث الشكل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52360" y="1865160"/>
            <a:ext cx="8523360" cy="274500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68280" y="5156280"/>
            <a:ext cx="8483760" cy="124452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676520" y="5359320"/>
            <a:ext cx="1549440" cy="1003320"/>
          </a:xfrm>
          <a:prstGeom prst="flowChartDocumen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400" spc="-1" strike="noStrike">
                <a:solidFill>
                  <a:srgbClr val="111111"/>
                </a:solidFill>
                <a:latin typeface="Times New Roman"/>
                <a:cs typeface="Times New Roman"/>
              </a:rPr>
              <a:t>تقارير بأسلوب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 </a:t>
            </a:r>
            <a:r>
              <a:rPr b="1" lang="ar-EG" sz="1400" spc="-1" strike="noStrike">
                <a:solidFill>
                  <a:srgbClr val="111111"/>
                </a:solidFill>
                <a:latin typeface="Times New Roman"/>
                <a:cs typeface="Times New Roman"/>
              </a:rPr>
              <a:t>التصنيف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2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0" y="0"/>
            <a:ext cx="9144000" cy="1273320"/>
          </a:xfrm>
          <a:prstGeom prst="rect">
            <a:avLst/>
          </a:prstGeom>
          <a:solidFill>
            <a:srgbClr val="263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pic>
        <p:nvPicPr>
          <p:cNvPr id="209" name="Boatblueoverlay" descr=""/>
          <p:cNvPicPr/>
          <p:nvPr/>
        </p:nvPicPr>
        <p:blipFill>
          <a:blip r:embed="rId1"/>
          <a:stretch/>
        </p:blipFill>
        <p:spPr>
          <a:xfrm>
            <a:off x="7848720" y="101520"/>
            <a:ext cx="1143000" cy="86832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7061040" y="645012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848720" y="100080"/>
            <a:ext cx="1143000" cy="868320"/>
          </a:xfrm>
          <a:prstGeom prst="rect">
            <a:avLst/>
          </a:prstGeom>
          <a:noFill/>
          <a:ln w="9360">
            <a:solidFill>
              <a:srgbClr val="ffe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20640" y="165240"/>
            <a:ext cx="6888240" cy="9777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01520" algn="r" rtl="1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تق</a:t>
            </a:r>
            <a:r>
              <a:rPr b="0" lang="en-GB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رير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مراجع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داخلي</a:t>
            </a:r>
            <a:r>
              <a:rPr b="0" lang="en-GB" sz="3200" spc="-1" strike="noStrike">
                <a:solidFill>
                  <a:srgbClr val="ffffff"/>
                </a:solidFill>
                <a:latin typeface="PwC_Logo"/>
                <a:cs typeface="PwC_Logo"/>
              </a:rPr>
              <a:t>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en-GB" sz="2000" spc="-1" strike="noStrike">
                <a:solidFill>
                  <a:srgbClr val="ffffff"/>
                </a:solidFill>
                <a:latin typeface="PwC_Logo"/>
                <a:cs typeface="PwC_Logo"/>
              </a:rPr>
              <a:t>ا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cs typeface="PwC_Logo"/>
              </a:rPr>
              <a:t>نواع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en-GB" sz="2000" spc="-1" strike="noStrike">
                <a:solidFill>
                  <a:srgbClr val="ffffff"/>
                </a:solidFill>
                <a:latin typeface="PwC_Logo"/>
                <a:cs typeface="PwC_Logo"/>
              </a:rPr>
              <a:t>ا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cs typeface="PwC_Logo"/>
              </a:rPr>
              <a:t>لتقارير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cs typeface="PwC_Logo"/>
              </a:rPr>
              <a:t>من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cs typeface="PwC_Logo"/>
              </a:rPr>
              <a:t>حيث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cs typeface="PwC_Logo"/>
              </a:rPr>
              <a:t>المضمون</a:t>
            </a:r>
            <a:r>
              <a:rPr b="0" lang="en-GB" sz="16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1600" spc="-1" strike="noStrike">
                <a:solidFill>
                  <a:srgbClr val="ffffff"/>
                </a:solidFill>
                <a:latin typeface="PwC_Logo"/>
                <a:ea typeface="PwC_Logo"/>
              </a:rPr>
              <a:t></a:t>
            </a:r>
            <a:r>
              <a:rPr b="0" lang="en-GB" sz="1600" spc="-1" strike="noStrike">
                <a:solidFill>
                  <a:srgbClr val="ffffff"/>
                </a:solidFill>
                <a:latin typeface="PwC_Logo"/>
                <a:ea typeface="PwC_Logo"/>
              </a:rPr>
              <a:t></a:t>
            </a:r>
            <a:r>
              <a:rPr b="0" lang="ar-SA" sz="1600" spc="-1" strike="noStrike">
                <a:solidFill>
                  <a:srgbClr val="ffffff"/>
                </a:solidFill>
                <a:latin typeface="PwC_Logo"/>
                <a:ea typeface="PwC_Logo"/>
              </a:rPr>
              <a:t>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0" y="851040"/>
            <a:ext cx="862956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109000"/>
              </a:lnSpc>
              <a:spcBef>
                <a:spcPts val="15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620640" y="1397160"/>
          <a:ext cx="8218440" cy="5308560"/>
        </p:xfrm>
        <a:graphic>
          <a:graphicData uri="http://schemas.openxmlformats.org/drawingml/2006/table">
            <a:tbl>
              <a:tblPr/>
              <a:tblGrid>
                <a:gridCol w="5218200"/>
                <a:gridCol w="3000240"/>
              </a:tblGrid>
              <a:tr h="915840">
                <a:tc>
                  <a:txBody>
                    <a:bodyPr lIns="0" rIns="274320" tIns="0" bIns="46800" anchor="t">
                      <a:noAutofit/>
                    </a:bodyPr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13680">
                      <a:solidFill>
                        <a:srgbClr val="111111"/>
                      </a:solidFill>
                    </a:lnL>
                    <a:lnR w="5760">
                      <a:solidFill>
                        <a:srgbClr val="111111"/>
                      </a:solidFill>
                    </a:lnR>
                    <a:lnT w="1368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noFill/>
                  </a:tcPr>
                </a:tc>
                <a:tc>
                  <a:txBody>
                    <a:bodyPr lIns="0" rIns="274320" tIns="0" bIns="46800" anchor="t">
                      <a:noAutofit/>
                    </a:bodyPr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1</a:t>
                      </a: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 مذكرات وتقارير للمناقشة</a:t>
                      </a: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5760">
                      <a:solidFill>
                        <a:srgbClr val="111111"/>
                      </a:solidFill>
                    </a:lnL>
                    <a:lnR w="13680">
                      <a:solidFill>
                        <a:srgbClr val="111111"/>
                      </a:solidFill>
                    </a:lnR>
                    <a:lnT w="1368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noFill/>
                  </a:tcPr>
                </a:tc>
              </a:tr>
              <a:tr h="971640">
                <a:tc>
                  <a:txBody>
                    <a:bodyPr lIns="0" rIns="274320" tIns="0" bIns="46800" anchor="t">
                      <a:noAutofit/>
                    </a:bodyPr>
                    <a:p>
                      <a:pPr marL="380880" indent="-380880" algn="r" rtl="1">
                        <a:lnSpc>
                          <a:spcPct val="109000"/>
                        </a:lnSpc>
                        <a:spcBef>
                          <a:spcPts val="964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4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marL="380880" indent="-380880" algn="r" rtl="1">
                        <a:lnSpc>
                          <a:spcPct val="109000"/>
                        </a:lnSpc>
                        <a:spcBef>
                          <a:spcPts val="964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4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marL="380880" indent="-380880" algn="r" rtl="1">
                        <a:lnSpc>
                          <a:spcPct val="109000"/>
                        </a:lnSpc>
                        <a:spcBef>
                          <a:spcPts val="964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4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13680">
                      <a:solidFill>
                        <a:srgbClr val="111111"/>
                      </a:solidFill>
                    </a:lnL>
                    <a:lnR w="576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noFill/>
                  </a:tcPr>
                </a:tc>
                <a:tc>
                  <a:txBody>
                    <a:bodyPr lIns="0" rIns="274320" tIns="0" bIns="46800" anchor="t">
                      <a:noAutofit/>
                    </a:bodyPr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2</a:t>
                      </a: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 - تقارير مدى الألتزام</a:t>
                      </a: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5760">
                      <a:solidFill>
                        <a:srgbClr val="111111"/>
                      </a:solidFill>
                    </a:lnL>
                    <a:lnR w="1368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noFill/>
                  </a:tcPr>
                </a:tc>
              </a:tr>
              <a:tr h="1458720">
                <a:tc>
                  <a:txBody>
                    <a:bodyPr lIns="0" rIns="274320" tIns="0" bIns="46800" anchor="t">
                      <a:noAutofit/>
                    </a:bodyPr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13680">
                      <a:solidFill>
                        <a:srgbClr val="111111"/>
                      </a:solidFill>
                    </a:lnL>
                    <a:lnR w="576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noFill/>
                  </a:tcPr>
                </a:tc>
                <a:tc>
                  <a:txBody>
                    <a:bodyPr lIns="0" rIns="274320" tIns="0" bIns="46800" anchor="t">
                      <a:noAutofit/>
                    </a:bodyPr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3</a:t>
                      </a: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- تقرير عن مشروع</a:t>
                      </a: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5760">
                      <a:solidFill>
                        <a:srgbClr val="111111"/>
                      </a:solidFill>
                    </a:lnL>
                    <a:lnR w="1368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noFill/>
                  </a:tcPr>
                </a:tc>
              </a:tr>
              <a:tr h="1962360">
                <a:tc>
                  <a:txBody>
                    <a:bodyPr lIns="0" rIns="274320" tIns="0" bIns="46800" anchor="t">
                      <a:noAutofit/>
                    </a:bodyPr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13680">
                      <a:solidFill>
                        <a:srgbClr val="111111"/>
                      </a:solidFill>
                    </a:lnL>
                    <a:lnR w="576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13680">
                      <a:solidFill>
                        <a:srgbClr val="111111"/>
                      </a:solidFill>
                    </a:lnB>
                    <a:noFill/>
                  </a:tcPr>
                </a:tc>
                <a:tc>
                  <a:txBody>
                    <a:bodyPr lIns="0" rIns="274320" tIns="0" bIns="46800" anchor="t">
                      <a:noAutofit/>
                    </a:bodyPr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4</a:t>
                      </a: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- ا تقارير متابعة </a:t>
                      </a: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5760">
                      <a:solidFill>
                        <a:srgbClr val="111111"/>
                      </a:solidFill>
                    </a:lnL>
                    <a:lnR w="1368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13680">
                      <a:solidFill>
                        <a:srgbClr val="111111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5" name=""/>
          <p:cNvSpPr/>
          <p:nvPr/>
        </p:nvSpPr>
        <p:spPr>
          <a:xfrm>
            <a:off x="521280" y="1465200"/>
            <a:ext cx="6287040" cy="4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marL="190440" indent="-19044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ى تقارير مبدئية تمثل نقاط للمناقشة حول النتائج المبدئية لمراجعته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190440" indent="-19044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بين المراجع والجهات او الأدارات التى قام بمراجعتها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20640" y="3290760"/>
            <a:ext cx="523404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marL="673200" indent="-19044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قصد بمراجعة مشروع هو مراجعة عمل معين اووحدات معينة 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673200" indent="-190440"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تقرير فحص مشروع للإدارة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673200" indent="-190440"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تقارير فحص الأعمال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673200" indent="-190440"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فحص تقارير التنفيذ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673200" indent="-190440"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تقارير الفحص النافى للجهالة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673200" indent="-19044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ختلف بأختلاف المشروع و متطلبات الأدارة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673200" indent="-19044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20640" y="2386080"/>
            <a:ext cx="5208840" cy="11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marL="190440" indent="-19044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ازال مراجعة مدى الألتزام وتقديم تقارير عنه جانب له اهمية كبرى لدى الأدارة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190440" indent="-19044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ادة ما تتم مراجعة مدى الألتزام بأستخدام قوائم الأستقصاء النمطية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190440" indent="-19044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ن الأفضل ان يتضمن فقط  مناطق عدم اللتزام  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838080" y="4805280"/>
            <a:ext cx="4953240" cy="22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marL="291960" indent="-291960" algn="r" rtl="1">
              <a:lnSpc>
                <a:spcPct val="109000"/>
              </a:lnSpc>
              <a:spcBef>
                <a:spcPts val="964"/>
              </a:spcBef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111111"/>
                </a:solidFill>
                <a:latin typeface="Times New Roman"/>
                <a:cs typeface="Times New Roman"/>
              </a:rPr>
              <a:t>يجب متابعة نتائج المراجعة للتأكد من تنفيذ التوصيات التى أتفق عليها عن طريق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lvl="1" marL="762120" indent="-279360" algn="r" rtl="1">
              <a:lnSpc>
                <a:spcPct val="109000"/>
              </a:lnSpc>
              <a:spcBef>
                <a:spcPts val="964"/>
              </a:spcBef>
              <a:buClr>
                <a:srgbClr val="3399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111111"/>
                </a:solidFill>
                <a:latin typeface="Times New Roman"/>
                <a:cs typeface="Times New Roman"/>
              </a:rPr>
              <a:t>الحصول على مصادقات الأدارة عما قامت به من إجراءات تصحيحية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lvl="1" marL="762120" indent="-279360" algn="r" rtl="1">
              <a:lnSpc>
                <a:spcPct val="109000"/>
              </a:lnSpc>
              <a:spcBef>
                <a:spcPts val="964"/>
              </a:spcBef>
              <a:buClr>
                <a:srgbClr val="3399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111111"/>
                </a:solidFill>
                <a:latin typeface="Times New Roman"/>
                <a:cs typeface="Times New Roman"/>
              </a:rPr>
              <a:t>إجراء اختبارات متابعة بواسطة المراجع الداخلى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lvl="1" marL="762120" indent="-279360" algn="r" rtl="1">
              <a:lnSpc>
                <a:spcPct val="109000"/>
              </a:lnSpc>
              <a:spcBef>
                <a:spcPts val="964"/>
              </a:spcBef>
              <a:buClr>
                <a:srgbClr val="3399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111111"/>
                </a:solidFill>
                <a:latin typeface="Times New Roman"/>
                <a:cs typeface="Times New Roman"/>
              </a:rPr>
              <a:t>المتابعة التقليدية للمراجعة فى حالة اكتشاف اخطاء هامة او مستوى مخاطر مرتفع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20:57:47Z</dcterms:created>
  <dc:creator>AMERRITT</dc:creator>
  <dc:description/>
  <dc:language>en-US</dc:language>
  <cp:lastModifiedBy>agamal</cp:lastModifiedBy>
  <cp:lastPrinted>2000-08-01T20:59:04Z</cp:lastPrinted>
  <dcterms:modified xsi:type="dcterms:W3CDTF">2003-04-29T13:22:05Z</dcterms:modified>
  <cp:revision>310</cp:revision>
  <dc:subject/>
  <dc:title>No Slide Title</dc:title>
</cp:coreProperties>
</file>